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3D5-6D69-43FD-94AB-E636339B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D61D-7D5E-4BB5-93E4-EFA16EB5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336C-4AE6-4416-8B0D-CECA473F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480-6B0B-4655-98AE-1DFBF6E8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D2A5-B9F2-4986-BDC4-D8243F93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3372-B814-4330-8AE6-2D5165A4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996C-30FC-4BB5-BB3E-A4265272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7E99-2762-42CE-A3D1-6F1290E2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211D-1204-400C-A026-3A3164AA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B56A-2E8A-4202-B6D5-E417FB4B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D42A-99B1-43B6-AD4F-D6313787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DA7-AA48-4D73-8820-D828C9CC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FCB1-9F34-4547-BBA0-65B4BE74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B165-832A-4364-B7E0-F3630B88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F93B-231F-4A8C-9316-2B87D854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95B7-5C7A-437E-998A-9C568F3C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68BE-74C4-46BA-9F76-8A07D945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EDF-43B3-4620-BF61-07935125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8AF4-23C1-46C9-A952-CDFC04FB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56E-0FE5-4F0D-A8C1-213AE13D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6B33-7205-4E3E-8608-E32C3201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FE13-2B2F-424F-8095-4DFA1806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ECDE-AAB7-45F5-81F2-9533F05F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8AF-82BA-4636-9CB7-E33B199C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C8BD-3341-48F9-A1D4-75D499F878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9239-2ED6-414B-914C-3F214D1DA0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8676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Arial"/>
              </a:rPr>
              <a:t>«История олимпийских игр»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838080" y="1219320"/>
            <a:ext cx="7620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ИКТОРИНА</a:t>
            </a:r>
            <a:endParaRPr b="0" lang="en-US" sz="1800" spc="1" strike="noStrike">
              <a:ln w="0">
                <a:noFill/>
              </a:ln>
              <a:solidFill>
                <a:srgbClr val="33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210960" y="5979960"/>
            <a:ext cx="480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учитель математики и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 Аннинская СОШ №3 с УИ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нченко Еле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едаль за высшее спортивное достижение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Золота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еребряна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ронзова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3276720" y="5638680"/>
            <a:ext cx="2514600" cy="106704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9"/>
          <p:cNvPicPr/>
          <p:nvPr/>
        </p:nvPicPr>
        <p:blipFill>
          <a:blip r:embed="rId1"/>
          <a:stretch/>
        </p:blipFill>
        <p:spPr>
          <a:xfrm>
            <a:off x="4495680" y="2057400"/>
            <a:ext cx="4114800" cy="30481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В каком году советские спортсмены впервые приняли участие в Олимпийских играх?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48 г., X Олимпийские иг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56 г., XII Олимпийские игр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52 г, XI  Олимпийские иг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312408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10"/>
          <p:cNvPicPr/>
          <p:nvPr/>
        </p:nvPicPr>
        <p:blipFill>
          <a:blip r:embed="rId1"/>
          <a:stretch/>
        </p:blipFill>
        <p:spPr>
          <a:xfrm>
            <a:off x="4724280" y="2209680"/>
            <a:ext cx="3772080" cy="24447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огда впервые в Олимпийских играх приняли участие женщины?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52 г, XI  Олимпийские иг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00 г, II Олимпийские иг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48 г., X Олимпийские иг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342900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11"/>
          <p:cNvPicPr/>
          <p:nvPr/>
        </p:nvPicPr>
        <p:blipFill>
          <a:blip r:embed="rId1"/>
          <a:stretch/>
        </p:blipFill>
        <p:spPr>
          <a:xfrm>
            <a:off x="4724280" y="2362320"/>
            <a:ext cx="3772080" cy="22860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Когда в честь побед Россиян впервые на Олимпийских играх поднялось трёхцветное знамя?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992 г., Барселона, Исп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984 г., Лос-Анжелес, СШ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972 г., Мюнхен, Герман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3200400" y="5638680"/>
            <a:ext cx="2514600" cy="106704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12"/>
          <p:cNvPicPr/>
          <p:nvPr/>
        </p:nvPicPr>
        <p:blipFill>
          <a:blip r:embed="rId1"/>
          <a:stretch/>
        </p:blipFill>
        <p:spPr>
          <a:xfrm>
            <a:off x="4724280" y="2362320"/>
            <a:ext cx="3772080" cy="21222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Кто был первым российским олимпийским чемпионом, фигуристом?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ндрей Миненко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лександр Горшков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.Панин-Коломенски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320040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13"/>
          <p:cNvPicPr/>
          <p:nvPr/>
        </p:nvPicPr>
        <p:blipFill>
          <a:blip r:embed="rId1"/>
          <a:stretch/>
        </p:blipFill>
        <p:spPr>
          <a:xfrm>
            <a:off x="4724280" y="2286000"/>
            <a:ext cx="3772080" cy="27972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Кто из гимнастов имеет 18 олимпийских медалей, из них 9 – золотых?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ариса Латыни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иколай Андриано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италий Щербо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/>
          <p:cNvSpPr/>
          <p:nvPr/>
        </p:nvSpPr>
        <p:spPr>
          <a:xfrm>
            <a:off x="320040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14"/>
          <p:cNvPicPr/>
          <p:nvPr/>
        </p:nvPicPr>
        <p:blipFill>
          <a:blip r:embed="rId1"/>
          <a:stretch/>
        </p:blipFill>
        <p:spPr>
          <a:xfrm>
            <a:off x="4800600" y="2133720"/>
            <a:ext cx="3772080" cy="30780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 каком году впервые в Олимпиаде победили советские хоккеисты?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60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56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52 г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12408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15"/>
          <p:cNvPicPr/>
          <p:nvPr/>
        </p:nvPicPr>
        <p:blipFill>
          <a:blip r:embed="rId1"/>
          <a:stretch/>
        </p:blipFill>
        <p:spPr>
          <a:xfrm>
            <a:off x="4495680" y="2133720"/>
            <a:ext cx="3772080" cy="25160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Главными словами знаменитой «Оды спорта» Пьера де Кубертена являются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Быстрее, выше, сильнее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Главное не победа, а участие»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О спорт, ты – мир!»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335268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16"/>
          <p:cNvPicPr/>
          <p:nvPr/>
        </p:nvPicPr>
        <p:blipFill>
          <a:blip r:embed="rId1"/>
          <a:stretch/>
        </p:blipFill>
        <p:spPr>
          <a:xfrm>
            <a:off x="5519880" y="1905120"/>
            <a:ext cx="3205080" cy="34290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Как называется организация, возглавляющая олимпийское движение в России?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МО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ФИФ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Б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312408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17"/>
          <p:cNvPicPr/>
          <p:nvPr/>
        </p:nvPicPr>
        <p:blipFill>
          <a:blip r:embed="rId1"/>
          <a:stretch/>
        </p:blipFill>
        <p:spPr>
          <a:xfrm>
            <a:off x="4572000" y="2209680"/>
            <a:ext cx="3772080" cy="24148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Трёхкратная советская олимпийская чемпионка в парном фигурном катании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юдмила Пахомов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юдмила Белоусов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рина Родни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327672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18"/>
          <p:cNvPicPr/>
          <p:nvPr/>
        </p:nvPicPr>
        <p:blipFill>
          <a:blip r:embed="rId1"/>
          <a:stretch/>
        </p:blipFill>
        <p:spPr>
          <a:xfrm>
            <a:off x="4648320" y="2666880"/>
            <a:ext cx="3771720" cy="24750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огда состоялись первые Олимпийские игры?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776 г. до н.э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772 г. до н.э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770 г. до н.э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342900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1"/>
          <p:cNvPicPr/>
          <p:nvPr/>
        </p:nvPicPr>
        <p:blipFill>
          <a:blip r:embed="rId1"/>
          <a:stretch/>
        </p:blipFill>
        <p:spPr>
          <a:xfrm>
            <a:off x="4686480" y="2644920"/>
            <a:ext cx="3771720" cy="25588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 каком городе находится штаб-квартира МОК?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Лозанна, Швейцар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фины, Грец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ариж, Франц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42900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19"/>
          <p:cNvPicPr/>
          <p:nvPr/>
        </p:nvPicPr>
        <p:blipFill>
          <a:blip r:embed="rId1"/>
          <a:stretch/>
        </p:blipFill>
        <p:spPr>
          <a:xfrm>
            <a:off x="5181480" y="2362320"/>
            <a:ext cx="3429000" cy="24145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Какие Олимпийские игры состоялись без участия советских спортсменов по политическим мотивам?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XII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Летние Олимпийские игры в 1980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XIII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Летние Олимпийские игры в 1984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XIV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Летние Олимпийские игры в 1986 г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411480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" descr="20"/>
          <p:cNvPicPr/>
          <p:nvPr/>
        </p:nvPicPr>
        <p:blipFill>
          <a:blip r:embed="rId1"/>
          <a:stretch/>
        </p:blipFill>
        <p:spPr>
          <a:xfrm>
            <a:off x="5029200" y="2133720"/>
            <a:ext cx="3657600" cy="24732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Над каким городом впервые был поднят олимпийский флаг?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нтверпен, Бельг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фины, Грец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ариж, Франц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320040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21"/>
          <p:cNvPicPr/>
          <p:nvPr/>
        </p:nvPicPr>
        <p:blipFill>
          <a:blip r:embed="rId1"/>
          <a:stretch/>
        </p:blipFill>
        <p:spPr>
          <a:xfrm>
            <a:off x="4686480" y="2668680"/>
            <a:ext cx="3771720" cy="25113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 каком году в Москве состоялись XXI Летние Олимпийские игры?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84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76 г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80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27672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22"/>
          <p:cNvPicPr/>
          <p:nvPr/>
        </p:nvPicPr>
        <p:blipFill>
          <a:blip r:embed="rId1"/>
          <a:stretch/>
        </p:blipFill>
        <p:spPr>
          <a:xfrm>
            <a:off x="4572000" y="2057400"/>
            <a:ext cx="3772080" cy="25844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Назовите талисман Олимпийских игр в Москве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Медвежонок Миш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рлёнок Сэ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Енот Рон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27672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23"/>
          <p:cNvPicPr/>
          <p:nvPr/>
        </p:nvPicPr>
        <p:blipFill>
          <a:blip r:embed="rId1"/>
          <a:stretch/>
        </p:blipFill>
        <p:spPr>
          <a:xfrm>
            <a:off x="4724280" y="2286000"/>
            <a:ext cx="3772080" cy="25448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Клуб, воспитавший победителей Олимпиад – фехтовальщиков, хоккеистов, баскетболистов, волейболистов и т.д. 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инам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партак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ЦС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320040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24"/>
          <p:cNvPicPr/>
          <p:nvPr/>
        </p:nvPicPr>
        <p:blipFill>
          <a:blip r:embed="rId1"/>
          <a:stretch/>
        </p:blipFill>
        <p:spPr>
          <a:xfrm>
            <a:off x="4648320" y="2362320"/>
            <a:ext cx="3771720" cy="28288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838080" y="2438280"/>
            <a:ext cx="7772400" cy="171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игру!</a:t>
            </a:r>
            <a:endParaRPr b="0" lang="en-US" sz="1800" spc="1" strike="noStrike">
              <a:ln w="0">
                <a:noFill/>
              </a:ln>
              <a:solidFill>
                <a:srgbClr val="33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 чью честь проводились Олимпийские Игры?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честь Аполло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честь Зевс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честь Аид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289548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2"/>
          <p:cNvPicPr/>
          <p:nvPr/>
        </p:nvPicPr>
        <p:blipFill>
          <a:blip r:embed="rId1"/>
          <a:stretch/>
        </p:blipFill>
        <p:spPr>
          <a:xfrm>
            <a:off x="4686480" y="2658960"/>
            <a:ext cx="3771720" cy="25304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Чем награждали победителей Олимпийский игр в Древней Греции?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Медалью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рамотой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енком из листьев лавр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327672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3 и 5"/>
          <p:cNvPicPr/>
          <p:nvPr/>
        </p:nvPicPr>
        <p:blipFill>
          <a:blip r:embed="rId1"/>
          <a:stretch/>
        </p:blipFill>
        <p:spPr>
          <a:xfrm>
            <a:off x="4952880" y="2459160"/>
            <a:ext cx="3581640" cy="26352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ак называли победителя Олимпийских игр в Древней Греции?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Чемпио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лимпиони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екордсмен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335268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4"/>
          <p:cNvPicPr/>
          <p:nvPr/>
        </p:nvPicPr>
        <p:blipFill>
          <a:blip r:embed="rId1"/>
          <a:stretch/>
        </p:blipFill>
        <p:spPr>
          <a:xfrm>
            <a:off x="4648320" y="2133720"/>
            <a:ext cx="3771720" cy="299376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Во время Олимпийских игр объявлялось военное перемирие, но однажды в Древней Греции оно было нарушено. Когда это произошло?</a:t>
            </a:r>
            <a:r>
              <a:rPr b="0" lang="ru-RU" sz="2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40 г. до н.э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44 г. до н.э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36 году до н.э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350532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3 и 5"/>
          <p:cNvPicPr/>
          <p:nvPr/>
        </p:nvPicPr>
        <p:blipFill>
          <a:blip r:embed="rId1"/>
          <a:stretch/>
        </p:blipFill>
        <p:spPr>
          <a:xfrm>
            <a:off x="4572000" y="2133720"/>
            <a:ext cx="3809880" cy="28033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огда и где были проведены первые Олимпийские игры современности?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896 г., Афины, Грец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900 г. Париж, Франц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906, Афины, Греция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3276720" y="54864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6"/>
          <p:cNvPicPr/>
          <p:nvPr/>
        </p:nvPicPr>
        <p:blipFill>
          <a:blip r:embed="rId1"/>
          <a:stretch/>
        </p:blipFill>
        <p:spPr>
          <a:xfrm>
            <a:off x="4572000" y="2286000"/>
            <a:ext cx="3772080" cy="25938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 каком году прошли I Зимние Олимпийские игры?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20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30 г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1924 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35268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7"/>
          <p:cNvPicPr/>
          <p:nvPr/>
        </p:nvPicPr>
        <p:blipFill>
          <a:blip r:embed="rId1"/>
          <a:stretch/>
        </p:blipFill>
        <p:spPr>
          <a:xfrm>
            <a:off x="4686480" y="2532240"/>
            <a:ext cx="3771720" cy="27842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Назовите девиз Олимпийских игр.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О спорт, ты – мир!»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Быстрее, выше, сильнее»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Главное не победа, а участие»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2895480" y="5562720"/>
            <a:ext cx="2514600" cy="1066680"/>
          </a:xfrm>
          <a:prstGeom prst="bevel">
            <a:avLst>
              <a:gd name="adj" fmla="val 125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>
            <a:hlinkClick r:id="" action="ppaction://hlinkshowjump?jump=nextslide"/>
          </p:cNvPr>
          <p:cNvSpPr/>
          <p:nvPr/>
        </p:nvSpPr>
        <p:spPr>
          <a:xfrm>
            <a:off x="533520" y="571500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8"/>
          <p:cNvPicPr/>
          <p:nvPr/>
        </p:nvPicPr>
        <p:blipFill>
          <a:blip r:embed="rId1"/>
          <a:stretch/>
        </p:blipFill>
        <p:spPr>
          <a:xfrm>
            <a:off x="4724280" y="2286000"/>
            <a:ext cx="3772080" cy="24955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5:33:15Z</dcterms:created>
  <dc:creator>Александр</dc:creator>
  <dc:description/>
  <dc:language>en-US</dc:language>
  <cp:lastModifiedBy>Ёля</cp:lastModifiedBy>
  <dcterms:modified xsi:type="dcterms:W3CDTF">2012-02-15T13:27:2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