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png" ContentType="image/png"/>
  <Override PartName="/ppt/media/image4.gif" ContentType="image/gif"/>
  <Override PartName="/ppt/media/image8.png" ContentType="image/png"/>
  <Override PartName="/ppt/media/image5.gif" ContentType="image/gif"/>
  <Override PartName="/ppt/media/image6.gif" ContentType="image/gif"/>
  <Override PartName="/ppt/media/image7.gif" ContentType="image/gif"/>
  <Override PartName="/ppt/media/image9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F35A-E00F-4609-AAEC-BF37EEECE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77C1-B273-4675-AD01-7F82F8D9D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8509-1ADF-4A82-8313-359E8B7E7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0C9D-DA2A-4B57-B3D4-B5A91132F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3134-3408-4B1F-BE70-865E42A5B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377A-4405-453C-A869-DE0E96236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DC75-57DB-4D86-934A-2F135C5C0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4FF0-8BC1-4DC3-84A5-96EB2E064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4DEA-5A7B-414F-BF9E-14890C077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835B-AC54-4728-A67A-36777DD88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1B80-30E3-4B97-97F7-1D9D0C243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6171-BC84-4EE1-B9C1-3DB624576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29675-AEA2-4253-8747-E6555BFA48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6.xml"/><Relationship Id="rId3" Type="http://schemas.openxmlformats.org/officeDocument/2006/relationships/slide" Target="slide5.xml"/><Relationship Id="rId4" Type="http://schemas.openxmlformats.org/officeDocument/2006/relationships/slide" Target="slide20.xml"/><Relationship Id="rId5" Type="http://schemas.openxmlformats.org/officeDocument/2006/relationships/slide" Target="slide12.xml"/><Relationship Id="rId6" Type="http://schemas.openxmlformats.org/officeDocument/2006/relationships/slide" Target="slide13.xml"/><Relationship Id="rId7" Type="http://schemas.openxmlformats.org/officeDocument/2006/relationships/slide" Target="slide23.xml"/><Relationship Id="rId8" Type="http://schemas.openxmlformats.org/officeDocument/2006/relationships/slide" Target="slide17.xml"/><Relationship Id="rId9" Type="http://schemas.openxmlformats.org/officeDocument/2006/relationships/slide" Target="slide8.xml"/><Relationship Id="rId10" Type="http://schemas.openxmlformats.org/officeDocument/2006/relationships/slide" Target="slide26.xml"/><Relationship Id="rId11" Type="http://schemas.openxmlformats.org/officeDocument/2006/relationships/slide" Target="slide18.xml"/><Relationship Id="rId12" Type="http://schemas.openxmlformats.org/officeDocument/2006/relationships/slide" Target="slide21.xml"/><Relationship Id="rId13" Type="http://schemas.openxmlformats.org/officeDocument/2006/relationships/slide" Target="slide24.xml"/><Relationship Id="rId14" Type="http://schemas.openxmlformats.org/officeDocument/2006/relationships/slide" Target="slide14.xml"/><Relationship Id="rId15" Type="http://schemas.openxmlformats.org/officeDocument/2006/relationships/slide" Target="slide7.xml"/><Relationship Id="rId16" Type="http://schemas.openxmlformats.org/officeDocument/2006/relationships/slide" Target="slide19.xml"/><Relationship Id="rId17" Type="http://schemas.openxmlformats.org/officeDocument/2006/relationships/slide" Target="slide25.xml"/><Relationship Id="rId18" Type="http://schemas.openxmlformats.org/officeDocument/2006/relationships/slide" Target="slide4.xml"/><Relationship Id="rId19" Type="http://schemas.openxmlformats.org/officeDocument/2006/relationships/slide" Target="slide3.xml"/><Relationship Id="rId20" Type="http://schemas.openxmlformats.org/officeDocument/2006/relationships/slide" Target="slide9.xml"/><Relationship Id="rId21" Type="http://schemas.openxmlformats.org/officeDocument/2006/relationships/slide" Target="slide15.xml"/><Relationship Id="rId22" Type="http://schemas.openxmlformats.org/officeDocument/2006/relationships/slide" Target="slide21.xml"/><Relationship Id="rId23" Type="http://schemas.openxmlformats.org/officeDocument/2006/relationships/slide" Target="slide27.xml"/><Relationship Id="rId2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png"/><Relationship Id="rId3" Type="http://schemas.openxmlformats.org/officeDocument/2006/relationships/image" Target="../media/image9.gif"/><Relationship Id="rId4" Type="http://schemas.openxmlformats.org/officeDocument/2006/relationships/image" Target="../media/image3.png"/><Relationship Id="rId5" Type="http://schemas.openxmlformats.org/officeDocument/2006/relationships/image" Target="../media/image9.gif"/><Relationship Id="rId6" Type="http://schemas.openxmlformats.org/officeDocument/2006/relationships/image" Target="../media/image9.gif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2349360"/>
            <a:ext cx="799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Georgia"/>
              </a:rPr>
              <a:t>НАША  ИГР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68360" y="3933720"/>
            <a:ext cx="2459160" cy="2406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877080" y="765000"/>
            <a:ext cx="1798560" cy="127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812000" y="5877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1563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7742160" y="163440"/>
            <a:ext cx="11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2 бал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>
            <a:hlinkClick r:id="rId1" action="ppaction://hlinksldjump"/>
          </p:cNvPr>
          <p:cNvSpPr/>
          <p:nvPr/>
        </p:nvSpPr>
        <p:spPr>
          <a:xfrm>
            <a:off x="8352000" y="6208560"/>
            <a:ext cx="792000" cy="6494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9440"/>
              <a:gd name="textAreaBottom" fmla="*/ 607680 h 649440"/>
            </a:gdLst>
            <a:ahLst/>
            <a:rect l="textAreaLeft" t="textAreaTop" r="textAreaRight" b="textAreaBottom"/>
            <a:pathLst>
              <a:path w="26339" h="21600">
                <a:moveTo>
                  <a:pt x="0" y="0"/>
                </a:moveTo>
                <a:lnTo>
                  <a:pt x="26339" y="0"/>
                </a:lnTo>
                <a:lnTo>
                  <a:pt x="26339" y="21600"/>
                </a:lnTo>
                <a:lnTo>
                  <a:pt x="0" y="21600"/>
                </a:lnTo>
                <a:close/>
              </a:path>
              <a:path fill="lightenLess" w="26339" h="21600">
                <a:moveTo>
                  <a:pt x="0" y="0"/>
                </a:moveTo>
                <a:lnTo>
                  <a:pt x="26339" y="0"/>
                </a:lnTo>
                <a:lnTo>
                  <a:pt x="24939" y="1400"/>
                </a:lnTo>
                <a:lnTo>
                  <a:pt x="1400" y="1400"/>
                </a:lnTo>
                <a:close/>
              </a:path>
              <a:path fill="darken" w="26339" h="21600">
                <a:moveTo>
                  <a:pt x="26339" y="0"/>
                </a:moveTo>
                <a:lnTo>
                  <a:pt x="26339" y="21600"/>
                </a:lnTo>
                <a:lnTo>
                  <a:pt x="24939" y="20200"/>
                </a:lnTo>
                <a:lnTo>
                  <a:pt x="24939" y="1400"/>
                </a:lnTo>
                <a:close/>
              </a:path>
              <a:path fill="darkenLess" w="26339" h="21600">
                <a:moveTo>
                  <a:pt x="263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39" y="20200"/>
                </a:lnTo>
                <a:close/>
              </a:path>
              <a:path fill="lighten" w="263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39" h="21600">
                <a:moveTo>
                  <a:pt x="6163" y="7493"/>
                </a:moveTo>
                <a:lnTo>
                  <a:pt x="9671" y="7493"/>
                </a:lnTo>
                <a:lnTo>
                  <a:pt x="9671" y="12828"/>
                </a:lnTo>
                <a:cubicBezTo>
                  <a:pt x="9671" y="13751"/>
                  <a:pt x="10471" y="14482"/>
                  <a:pt x="11507" y="14482"/>
                </a:cubicBezTo>
                <a:lnTo>
                  <a:pt x="13169" y="14482"/>
                </a:lnTo>
                <a:cubicBezTo>
                  <a:pt x="14205" y="14482"/>
                  <a:pt x="15006" y="13751"/>
                  <a:pt x="15006" y="12828"/>
                </a:cubicBezTo>
                <a:lnTo>
                  <a:pt x="15006" y="7493"/>
                </a:lnTo>
                <a:lnTo>
                  <a:pt x="13169" y="7493"/>
                </a:lnTo>
                <a:lnTo>
                  <a:pt x="16677" y="3985"/>
                </a:lnTo>
                <a:lnTo>
                  <a:pt x="20350" y="7493"/>
                </a:lnTo>
                <a:lnTo>
                  <a:pt x="18513" y="7493"/>
                </a:lnTo>
                <a:lnTo>
                  <a:pt x="18513" y="12828"/>
                </a:lnTo>
                <a:cubicBezTo>
                  <a:pt x="18513" y="15596"/>
                  <a:pt x="15937" y="18155"/>
                  <a:pt x="13169" y="18155"/>
                </a:cubicBezTo>
                <a:lnTo>
                  <a:pt x="11507" y="18155"/>
                </a:lnTo>
                <a:cubicBezTo>
                  <a:pt x="8739" y="18155"/>
                  <a:pt x="6163" y="15596"/>
                  <a:pt x="616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700360" y="5084640"/>
            <a:ext cx="345600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хоров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95360" y="2050200"/>
            <a:ext cx="810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зовите старинный, но нестареющ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анец у елки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9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7742160" y="163440"/>
            <a:ext cx="11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3 бал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>
            <a:hlinkClick r:id="rId1" action="ppaction://hlinksldjump"/>
          </p:cNvPr>
          <p:cNvSpPr/>
          <p:nvPr/>
        </p:nvSpPr>
        <p:spPr>
          <a:xfrm>
            <a:off x="8352000" y="6208560"/>
            <a:ext cx="792000" cy="6494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9440"/>
              <a:gd name="textAreaBottom" fmla="*/ 607680 h 649440"/>
            </a:gdLst>
            <a:ahLst/>
            <a:rect l="textAreaLeft" t="textAreaTop" r="textAreaRight" b="textAreaBottom"/>
            <a:pathLst>
              <a:path w="26339" h="21600">
                <a:moveTo>
                  <a:pt x="0" y="0"/>
                </a:moveTo>
                <a:lnTo>
                  <a:pt x="26339" y="0"/>
                </a:lnTo>
                <a:lnTo>
                  <a:pt x="26339" y="21600"/>
                </a:lnTo>
                <a:lnTo>
                  <a:pt x="0" y="21600"/>
                </a:lnTo>
                <a:close/>
              </a:path>
              <a:path fill="lightenLess" w="26339" h="21600">
                <a:moveTo>
                  <a:pt x="0" y="0"/>
                </a:moveTo>
                <a:lnTo>
                  <a:pt x="26339" y="0"/>
                </a:lnTo>
                <a:lnTo>
                  <a:pt x="24939" y="1400"/>
                </a:lnTo>
                <a:lnTo>
                  <a:pt x="1400" y="1400"/>
                </a:lnTo>
                <a:close/>
              </a:path>
              <a:path fill="darken" w="26339" h="21600">
                <a:moveTo>
                  <a:pt x="26339" y="0"/>
                </a:moveTo>
                <a:lnTo>
                  <a:pt x="26339" y="21600"/>
                </a:lnTo>
                <a:lnTo>
                  <a:pt x="24939" y="20200"/>
                </a:lnTo>
                <a:lnTo>
                  <a:pt x="24939" y="1400"/>
                </a:lnTo>
                <a:close/>
              </a:path>
              <a:path fill="darkenLess" w="26339" h="21600">
                <a:moveTo>
                  <a:pt x="263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39" y="20200"/>
                </a:lnTo>
                <a:close/>
              </a:path>
              <a:path fill="lighten" w="263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39" h="21600">
                <a:moveTo>
                  <a:pt x="6163" y="7493"/>
                </a:moveTo>
                <a:lnTo>
                  <a:pt x="9671" y="7493"/>
                </a:lnTo>
                <a:lnTo>
                  <a:pt x="9671" y="12828"/>
                </a:lnTo>
                <a:cubicBezTo>
                  <a:pt x="9671" y="13751"/>
                  <a:pt x="10471" y="14482"/>
                  <a:pt x="11507" y="14482"/>
                </a:cubicBezTo>
                <a:lnTo>
                  <a:pt x="13169" y="14482"/>
                </a:lnTo>
                <a:cubicBezTo>
                  <a:pt x="14205" y="14482"/>
                  <a:pt x="15006" y="13751"/>
                  <a:pt x="15006" y="12828"/>
                </a:cubicBezTo>
                <a:lnTo>
                  <a:pt x="15006" y="7493"/>
                </a:lnTo>
                <a:lnTo>
                  <a:pt x="13169" y="7493"/>
                </a:lnTo>
                <a:lnTo>
                  <a:pt x="16677" y="3985"/>
                </a:lnTo>
                <a:lnTo>
                  <a:pt x="20350" y="7493"/>
                </a:lnTo>
                <a:lnTo>
                  <a:pt x="18513" y="7493"/>
                </a:lnTo>
                <a:lnTo>
                  <a:pt x="18513" y="12828"/>
                </a:lnTo>
                <a:cubicBezTo>
                  <a:pt x="18513" y="15596"/>
                  <a:pt x="15937" y="18155"/>
                  <a:pt x="13169" y="18155"/>
                </a:cubicBezTo>
                <a:lnTo>
                  <a:pt x="11507" y="18155"/>
                </a:lnTo>
                <a:cubicBezTo>
                  <a:pt x="8739" y="18155"/>
                  <a:pt x="6163" y="15596"/>
                  <a:pt x="616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411280" y="5084640"/>
            <a:ext cx="395928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 Южном полю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75600" y="2636280"/>
            <a:ext cx="75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а каком полюсе холоднее?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9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7742160" y="163440"/>
            <a:ext cx="11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4 бал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>
            <a:hlinkClick r:id="rId1" action="ppaction://hlinksldjump"/>
          </p:cNvPr>
          <p:cNvSpPr/>
          <p:nvPr/>
        </p:nvSpPr>
        <p:spPr>
          <a:xfrm>
            <a:off x="8352000" y="6208560"/>
            <a:ext cx="792000" cy="6494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9440"/>
              <a:gd name="textAreaBottom" fmla="*/ 607680 h 649440"/>
            </a:gdLst>
            <a:ahLst/>
            <a:rect l="textAreaLeft" t="textAreaTop" r="textAreaRight" b="textAreaBottom"/>
            <a:pathLst>
              <a:path w="26339" h="21600">
                <a:moveTo>
                  <a:pt x="0" y="0"/>
                </a:moveTo>
                <a:lnTo>
                  <a:pt x="26339" y="0"/>
                </a:lnTo>
                <a:lnTo>
                  <a:pt x="26339" y="21600"/>
                </a:lnTo>
                <a:lnTo>
                  <a:pt x="0" y="21600"/>
                </a:lnTo>
                <a:close/>
              </a:path>
              <a:path fill="lightenLess" w="26339" h="21600">
                <a:moveTo>
                  <a:pt x="0" y="0"/>
                </a:moveTo>
                <a:lnTo>
                  <a:pt x="26339" y="0"/>
                </a:lnTo>
                <a:lnTo>
                  <a:pt x="24939" y="1400"/>
                </a:lnTo>
                <a:lnTo>
                  <a:pt x="1400" y="1400"/>
                </a:lnTo>
                <a:close/>
              </a:path>
              <a:path fill="darken" w="26339" h="21600">
                <a:moveTo>
                  <a:pt x="26339" y="0"/>
                </a:moveTo>
                <a:lnTo>
                  <a:pt x="26339" y="21600"/>
                </a:lnTo>
                <a:lnTo>
                  <a:pt x="24939" y="20200"/>
                </a:lnTo>
                <a:lnTo>
                  <a:pt x="24939" y="1400"/>
                </a:lnTo>
                <a:close/>
              </a:path>
              <a:path fill="darkenLess" w="26339" h="21600">
                <a:moveTo>
                  <a:pt x="263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39" y="20200"/>
                </a:lnTo>
                <a:close/>
              </a:path>
              <a:path fill="lighten" w="263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39" h="21600">
                <a:moveTo>
                  <a:pt x="6163" y="7493"/>
                </a:moveTo>
                <a:lnTo>
                  <a:pt x="9671" y="7493"/>
                </a:lnTo>
                <a:lnTo>
                  <a:pt x="9671" y="12828"/>
                </a:lnTo>
                <a:cubicBezTo>
                  <a:pt x="9671" y="13751"/>
                  <a:pt x="10471" y="14482"/>
                  <a:pt x="11507" y="14482"/>
                </a:cubicBezTo>
                <a:lnTo>
                  <a:pt x="13169" y="14482"/>
                </a:lnTo>
                <a:cubicBezTo>
                  <a:pt x="14205" y="14482"/>
                  <a:pt x="15006" y="13751"/>
                  <a:pt x="15006" y="12828"/>
                </a:cubicBezTo>
                <a:lnTo>
                  <a:pt x="15006" y="7493"/>
                </a:lnTo>
                <a:lnTo>
                  <a:pt x="13169" y="7493"/>
                </a:lnTo>
                <a:lnTo>
                  <a:pt x="16677" y="3985"/>
                </a:lnTo>
                <a:lnTo>
                  <a:pt x="20350" y="7493"/>
                </a:lnTo>
                <a:lnTo>
                  <a:pt x="18513" y="7493"/>
                </a:lnTo>
                <a:lnTo>
                  <a:pt x="18513" y="12828"/>
                </a:lnTo>
                <a:cubicBezTo>
                  <a:pt x="18513" y="15596"/>
                  <a:pt x="15937" y="18155"/>
                  <a:pt x="13169" y="18155"/>
                </a:cubicBezTo>
                <a:lnTo>
                  <a:pt x="11507" y="18155"/>
                </a:lnTo>
                <a:cubicBezTo>
                  <a:pt x="8739" y="18155"/>
                  <a:pt x="6163" y="15596"/>
                  <a:pt x="616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700360" y="5084640"/>
            <a:ext cx="345600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олк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50600" y="2204280"/>
            <a:ext cx="781128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обегающая мимо елочки рысц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ерая во всех отношениях личность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9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7452720" y="189000"/>
            <a:ext cx="132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5 бал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700360" y="4653000"/>
            <a:ext cx="3456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Метел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01600" y="32439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70560" y="2996280"/>
            <a:ext cx="727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сполнительница песен для ел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352000" y="6208560"/>
            <a:ext cx="792000" cy="6494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9440"/>
              <a:gd name="textAreaBottom" fmla="*/ 607680 h 649440"/>
            </a:gdLst>
            <a:ahLst/>
            <a:rect l="textAreaLeft" t="textAreaTop" r="textAreaRight" b="textAreaBottom"/>
            <a:pathLst>
              <a:path w="26339" h="21600">
                <a:moveTo>
                  <a:pt x="0" y="0"/>
                </a:moveTo>
                <a:lnTo>
                  <a:pt x="26339" y="0"/>
                </a:lnTo>
                <a:lnTo>
                  <a:pt x="26339" y="21600"/>
                </a:lnTo>
                <a:lnTo>
                  <a:pt x="0" y="21600"/>
                </a:lnTo>
                <a:close/>
              </a:path>
              <a:path fill="lightenLess" w="26339" h="21600">
                <a:moveTo>
                  <a:pt x="0" y="0"/>
                </a:moveTo>
                <a:lnTo>
                  <a:pt x="26339" y="0"/>
                </a:lnTo>
                <a:lnTo>
                  <a:pt x="24939" y="1400"/>
                </a:lnTo>
                <a:lnTo>
                  <a:pt x="1400" y="1400"/>
                </a:lnTo>
                <a:close/>
              </a:path>
              <a:path fill="darken" w="26339" h="21600">
                <a:moveTo>
                  <a:pt x="26339" y="0"/>
                </a:moveTo>
                <a:lnTo>
                  <a:pt x="26339" y="21600"/>
                </a:lnTo>
                <a:lnTo>
                  <a:pt x="24939" y="20200"/>
                </a:lnTo>
                <a:lnTo>
                  <a:pt x="24939" y="1400"/>
                </a:lnTo>
                <a:close/>
              </a:path>
              <a:path fill="darkenLess" w="26339" h="21600">
                <a:moveTo>
                  <a:pt x="263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39" y="20200"/>
                </a:lnTo>
                <a:close/>
              </a:path>
              <a:path fill="lighten" w="263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39" h="21600">
                <a:moveTo>
                  <a:pt x="6163" y="7493"/>
                </a:moveTo>
                <a:lnTo>
                  <a:pt x="9671" y="7493"/>
                </a:lnTo>
                <a:lnTo>
                  <a:pt x="9671" y="12828"/>
                </a:lnTo>
                <a:cubicBezTo>
                  <a:pt x="9671" y="13751"/>
                  <a:pt x="10471" y="14482"/>
                  <a:pt x="11507" y="14482"/>
                </a:cubicBezTo>
                <a:lnTo>
                  <a:pt x="13169" y="14482"/>
                </a:lnTo>
                <a:cubicBezTo>
                  <a:pt x="14205" y="14482"/>
                  <a:pt x="15006" y="13751"/>
                  <a:pt x="15006" y="12828"/>
                </a:cubicBezTo>
                <a:lnTo>
                  <a:pt x="15006" y="7493"/>
                </a:lnTo>
                <a:lnTo>
                  <a:pt x="13169" y="7493"/>
                </a:lnTo>
                <a:lnTo>
                  <a:pt x="16677" y="3985"/>
                </a:lnTo>
                <a:lnTo>
                  <a:pt x="20350" y="7493"/>
                </a:lnTo>
                <a:lnTo>
                  <a:pt x="18513" y="7493"/>
                </a:lnTo>
                <a:lnTo>
                  <a:pt x="18513" y="12828"/>
                </a:lnTo>
                <a:cubicBezTo>
                  <a:pt x="18513" y="15596"/>
                  <a:pt x="15937" y="18155"/>
                  <a:pt x="13169" y="18155"/>
                </a:cubicBezTo>
                <a:lnTo>
                  <a:pt x="11507" y="18155"/>
                </a:lnTo>
                <a:cubicBezTo>
                  <a:pt x="8739" y="18155"/>
                  <a:pt x="6163" y="15596"/>
                  <a:pt x="616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9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7741800" y="163440"/>
            <a:ext cx="132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6 бал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>
            <a:hlinkClick r:id="rId1" action="ppaction://hlinksldjump"/>
          </p:cNvPr>
          <p:cNvSpPr/>
          <p:nvPr/>
        </p:nvSpPr>
        <p:spPr>
          <a:xfrm>
            <a:off x="8352000" y="6208560"/>
            <a:ext cx="792000" cy="6494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9440"/>
              <a:gd name="textAreaBottom" fmla="*/ 607680 h 649440"/>
            </a:gdLst>
            <a:ahLst/>
            <a:rect l="textAreaLeft" t="textAreaTop" r="textAreaRight" b="textAreaBottom"/>
            <a:pathLst>
              <a:path w="26339" h="21600">
                <a:moveTo>
                  <a:pt x="0" y="0"/>
                </a:moveTo>
                <a:lnTo>
                  <a:pt x="26339" y="0"/>
                </a:lnTo>
                <a:lnTo>
                  <a:pt x="26339" y="21600"/>
                </a:lnTo>
                <a:lnTo>
                  <a:pt x="0" y="21600"/>
                </a:lnTo>
                <a:close/>
              </a:path>
              <a:path fill="lightenLess" w="26339" h="21600">
                <a:moveTo>
                  <a:pt x="0" y="0"/>
                </a:moveTo>
                <a:lnTo>
                  <a:pt x="26339" y="0"/>
                </a:lnTo>
                <a:lnTo>
                  <a:pt x="24939" y="1400"/>
                </a:lnTo>
                <a:lnTo>
                  <a:pt x="1400" y="1400"/>
                </a:lnTo>
                <a:close/>
              </a:path>
              <a:path fill="darken" w="26339" h="21600">
                <a:moveTo>
                  <a:pt x="26339" y="0"/>
                </a:moveTo>
                <a:lnTo>
                  <a:pt x="26339" y="21600"/>
                </a:lnTo>
                <a:lnTo>
                  <a:pt x="24939" y="20200"/>
                </a:lnTo>
                <a:lnTo>
                  <a:pt x="24939" y="1400"/>
                </a:lnTo>
                <a:close/>
              </a:path>
              <a:path fill="darkenLess" w="26339" h="21600">
                <a:moveTo>
                  <a:pt x="263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39" y="20200"/>
                </a:lnTo>
                <a:close/>
              </a:path>
              <a:path fill="lighten" w="263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39" h="21600">
                <a:moveTo>
                  <a:pt x="6163" y="7493"/>
                </a:moveTo>
                <a:lnTo>
                  <a:pt x="9671" y="7493"/>
                </a:lnTo>
                <a:lnTo>
                  <a:pt x="9671" y="12828"/>
                </a:lnTo>
                <a:cubicBezTo>
                  <a:pt x="9671" y="13751"/>
                  <a:pt x="10471" y="14482"/>
                  <a:pt x="11507" y="14482"/>
                </a:cubicBezTo>
                <a:lnTo>
                  <a:pt x="13169" y="14482"/>
                </a:lnTo>
                <a:cubicBezTo>
                  <a:pt x="14205" y="14482"/>
                  <a:pt x="15006" y="13751"/>
                  <a:pt x="15006" y="12828"/>
                </a:cubicBezTo>
                <a:lnTo>
                  <a:pt x="15006" y="7493"/>
                </a:lnTo>
                <a:lnTo>
                  <a:pt x="13169" y="7493"/>
                </a:lnTo>
                <a:lnTo>
                  <a:pt x="16677" y="3985"/>
                </a:lnTo>
                <a:lnTo>
                  <a:pt x="20350" y="7493"/>
                </a:lnTo>
                <a:lnTo>
                  <a:pt x="18513" y="7493"/>
                </a:lnTo>
                <a:lnTo>
                  <a:pt x="18513" y="12828"/>
                </a:lnTo>
                <a:cubicBezTo>
                  <a:pt x="18513" y="15596"/>
                  <a:pt x="15937" y="18155"/>
                  <a:pt x="13169" y="18155"/>
                </a:cubicBezTo>
                <a:lnTo>
                  <a:pt x="11507" y="18155"/>
                </a:lnTo>
                <a:cubicBezTo>
                  <a:pt x="8739" y="18155"/>
                  <a:pt x="6163" y="15596"/>
                  <a:pt x="616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700360" y="5084640"/>
            <a:ext cx="345600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Гололед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77680" y="1462320"/>
            <a:ext cx="748224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иродное явление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без песочной  посыпк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ызывающее неустойчивость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аселения зимой.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6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9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7742160" y="163440"/>
            <a:ext cx="10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1 бал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>
            <a:hlinkClick r:id="rId1" action="ppaction://hlinksldjump"/>
          </p:cNvPr>
          <p:cNvSpPr/>
          <p:nvPr/>
        </p:nvSpPr>
        <p:spPr>
          <a:xfrm>
            <a:off x="8352000" y="6208560"/>
            <a:ext cx="792000" cy="6494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9440"/>
              <a:gd name="textAreaBottom" fmla="*/ 607680 h 649440"/>
            </a:gdLst>
            <a:ahLst/>
            <a:rect l="textAreaLeft" t="textAreaTop" r="textAreaRight" b="textAreaBottom"/>
            <a:pathLst>
              <a:path w="26339" h="21600">
                <a:moveTo>
                  <a:pt x="0" y="0"/>
                </a:moveTo>
                <a:lnTo>
                  <a:pt x="26339" y="0"/>
                </a:lnTo>
                <a:lnTo>
                  <a:pt x="26339" y="21600"/>
                </a:lnTo>
                <a:lnTo>
                  <a:pt x="0" y="21600"/>
                </a:lnTo>
                <a:close/>
              </a:path>
              <a:path fill="lightenLess" w="26339" h="21600">
                <a:moveTo>
                  <a:pt x="0" y="0"/>
                </a:moveTo>
                <a:lnTo>
                  <a:pt x="26339" y="0"/>
                </a:lnTo>
                <a:lnTo>
                  <a:pt x="24939" y="1400"/>
                </a:lnTo>
                <a:lnTo>
                  <a:pt x="1400" y="1400"/>
                </a:lnTo>
                <a:close/>
              </a:path>
              <a:path fill="darken" w="26339" h="21600">
                <a:moveTo>
                  <a:pt x="26339" y="0"/>
                </a:moveTo>
                <a:lnTo>
                  <a:pt x="26339" y="21600"/>
                </a:lnTo>
                <a:lnTo>
                  <a:pt x="24939" y="20200"/>
                </a:lnTo>
                <a:lnTo>
                  <a:pt x="24939" y="1400"/>
                </a:lnTo>
                <a:close/>
              </a:path>
              <a:path fill="darkenLess" w="26339" h="21600">
                <a:moveTo>
                  <a:pt x="263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39" y="20200"/>
                </a:lnTo>
                <a:close/>
              </a:path>
              <a:path fill="lighten" w="263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39" h="21600">
                <a:moveTo>
                  <a:pt x="6163" y="7493"/>
                </a:moveTo>
                <a:lnTo>
                  <a:pt x="9671" y="7493"/>
                </a:lnTo>
                <a:lnTo>
                  <a:pt x="9671" y="12828"/>
                </a:lnTo>
                <a:cubicBezTo>
                  <a:pt x="9671" y="13751"/>
                  <a:pt x="10471" y="14482"/>
                  <a:pt x="11507" y="14482"/>
                </a:cubicBezTo>
                <a:lnTo>
                  <a:pt x="13169" y="14482"/>
                </a:lnTo>
                <a:cubicBezTo>
                  <a:pt x="14205" y="14482"/>
                  <a:pt x="15006" y="13751"/>
                  <a:pt x="15006" y="12828"/>
                </a:cubicBezTo>
                <a:lnTo>
                  <a:pt x="15006" y="7493"/>
                </a:lnTo>
                <a:lnTo>
                  <a:pt x="13169" y="7493"/>
                </a:lnTo>
                <a:lnTo>
                  <a:pt x="16677" y="3985"/>
                </a:lnTo>
                <a:lnTo>
                  <a:pt x="20350" y="7493"/>
                </a:lnTo>
                <a:lnTo>
                  <a:pt x="18513" y="7493"/>
                </a:lnTo>
                <a:lnTo>
                  <a:pt x="18513" y="12828"/>
                </a:lnTo>
                <a:cubicBezTo>
                  <a:pt x="18513" y="15596"/>
                  <a:pt x="15937" y="18155"/>
                  <a:pt x="13169" y="18155"/>
                </a:cubicBezTo>
                <a:lnTo>
                  <a:pt x="11507" y="18155"/>
                </a:lnTo>
                <a:cubicBezTo>
                  <a:pt x="8739" y="18155"/>
                  <a:pt x="6163" y="15596"/>
                  <a:pt x="616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700360" y="5084640"/>
            <a:ext cx="424800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тарик со старух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2492280"/>
            <a:ext cx="82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Какие сказочные герои прожили      «30 лет и 3 года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684360" y="4508640"/>
            <a:ext cx="100800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9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7742160" y="163440"/>
            <a:ext cx="11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2 бал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>
            <a:hlinkClick r:id="rId1" action="ppaction://hlinksldjump"/>
          </p:cNvPr>
          <p:cNvSpPr/>
          <p:nvPr/>
        </p:nvSpPr>
        <p:spPr>
          <a:xfrm>
            <a:off x="8352000" y="6208560"/>
            <a:ext cx="792000" cy="6494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9440"/>
              <a:gd name="textAreaBottom" fmla="*/ 607680 h 649440"/>
            </a:gdLst>
            <a:ahLst/>
            <a:rect l="textAreaLeft" t="textAreaTop" r="textAreaRight" b="textAreaBottom"/>
            <a:pathLst>
              <a:path w="26339" h="21600">
                <a:moveTo>
                  <a:pt x="0" y="0"/>
                </a:moveTo>
                <a:lnTo>
                  <a:pt x="26339" y="0"/>
                </a:lnTo>
                <a:lnTo>
                  <a:pt x="26339" y="21600"/>
                </a:lnTo>
                <a:lnTo>
                  <a:pt x="0" y="21600"/>
                </a:lnTo>
                <a:close/>
              </a:path>
              <a:path fill="lightenLess" w="26339" h="21600">
                <a:moveTo>
                  <a:pt x="0" y="0"/>
                </a:moveTo>
                <a:lnTo>
                  <a:pt x="26339" y="0"/>
                </a:lnTo>
                <a:lnTo>
                  <a:pt x="24939" y="1400"/>
                </a:lnTo>
                <a:lnTo>
                  <a:pt x="1400" y="1400"/>
                </a:lnTo>
                <a:close/>
              </a:path>
              <a:path fill="darken" w="26339" h="21600">
                <a:moveTo>
                  <a:pt x="26339" y="0"/>
                </a:moveTo>
                <a:lnTo>
                  <a:pt x="26339" y="21600"/>
                </a:lnTo>
                <a:lnTo>
                  <a:pt x="24939" y="20200"/>
                </a:lnTo>
                <a:lnTo>
                  <a:pt x="24939" y="1400"/>
                </a:lnTo>
                <a:close/>
              </a:path>
              <a:path fill="darkenLess" w="26339" h="21600">
                <a:moveTo>
                  <a:pt x="263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39" y="20200"/>
                </a:lnTo>
                <a:close/>
              </a:path>
              <a:path fill="lighten" w="263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39" h="21600">
                <a:moveTo>
                  <a:pt x="6163" y="7493"/>
                </a:moveTo>
                <a:lnTo>
                  <a:pt x="9671" y="7493"/>
                </a:lnTo>
                <a:lnTo>
                  <a:pt x="9671" y="12828"/>
                </a:lnTo>
                <a:cubicBezTo>
                  <a:pt x="9671" y="13751"/>
                  <a:pt x="10471" y="14482"/>
                  <a:pt x="11507" y="14482"/>
                </a:cubicBezTo>
                <a:lnTo>
                  <a:pt x="13169" y="14482"/>
                </a:lnTo>
                <a:cubicBezTo>
                  <a:pt x="14205" y="14482"/>
                  <a:pt x="15006" y="13751"/>
                  <a:pt x="15006" y="12828"/>
                </a:cubicBezTo>
                <a:lnTo>
                  <a:pt x="15006" y="7493"/>
                </a:lnTo>
                <a:lnTo>
                  <a:pt x="13169" y="7493"/>
                </a:lnTo>
                <a:lnTo>
                  <a:pt x="16677" y="3985"/>
                </a:lnTo>
                <a:lnTo>
                  <a:pt x="20350" y="7493"/>
                </a:lnTo>
                <a:lnTo>
                  <a:pt x="18513" y="7493"/>
                </a:lnTo>
                <a:lnTo>
                  <a:pt x="18513" y="12828"/>
                </a:lnTo>
                <a:cubicBezTo>
                  <a:pt x="18513" y="15596"/>
                  <a:pt x="15937" y="18155"/>
                  <a:pt x="13169" y="18155"/>
                </a:cubicBezTo>
                <a:lnTo>
                  <a:pt x="11507" y="18155"/>
                </a:lnTo>
                <a:cubicBezTo>
                  <a:pt x="8739" y="18155"/>
                  <a:pt x="6163" y="15596"/>
                  <a:pt x="616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700360" y="5084640"/>
            <a:ext cx="345600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Царевна-лягуш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8360" y="2492280"/>
            <a:ext cx="82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Назовите сказочный персонаж, лезущий вон из кож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1042920" y="5229360"/>
            <a:ext cx="100800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9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7742160" y="163440"/>
            <a:ext cx="11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3 бал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>
            <a:hlinkClick r:id="rId1" action="ppaction://hlinksldjump"/>
          </p:cNvPr>
          <p:cNvSpPr/>
          <p:nvPr/>
        </p:nvSpPr>
        <p:spPr>
          <a:xfrm>
            <a:off x="8352000" y="6208560"/>
            <a:ext cx="792000" cy="6494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9440"/>
              <a:gd name="textAreaBottom" fmla="*/ 607680 h 649440"/>
            </a:gdLst>
            <a:ahLst/>
            <a:rect l="textAreaLeft" t="textAreaTop" r="textAreaRight" b="textAreaBottom"/>
            <a:pathLst>
              <a:path w="26339" h="21600">
                <a:moveTo>
                  <a:pt x="0" y="0"/>
                </a:moveTo>
                <a:lnTo>
                  <a:pt x="26339" y="0"/>
                </a:lnTo>
                <a:lnTo>
                  <a:pt x="26339" y="21600"/>
                </a:lnTo>
                <a:lnTo>
                  <a:pt x="0" y="21600"/>
                </a:lnTo>
                <a:close/>
              </a:path>
              <a:path fill="lightenLess" w="26339" h="21600">
                <a:moveTo>
                  <a:pt x="0" y="0"/>
                </a:moveTo>
                <a:lnTo>
                  <a:pt x="26339" y="0"/>
                </a:lnTo>
                <a:lnTo>
                  <a:pt x="24939" y="1400"/>
                </a:lnTo>
                <a:lnTo>
                  <a:pt x="1400" y="1400"/>
                </a:lnTo>
                <a:close/>
              </a:path>
              <a:path fill="darken" w="26339" h="21600">
                <a:moveTo>
                  <a:pt x="26339" y="0"/>
                </a:moveTo>
                <a:lnTo>
                  <a:pt x="26339" y="21600"/>
                </a:lnTo>
                <a:lnTo>
                  <a:pt x="24939" y="20200"/>
                </a:lnTo>
                <a:lnTo>
                  <a:pt x="24939" y="1400"/>
                </a:lnTo>
                <a:close/>
              </a:path>
              <a:path fill="darkenLess" w="26339" h="21600">
                <a:moveTo>
                  <a:pt x="263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39" y="20200"/>
                </a:lnTo>
                <a:close/>
              </a:path>
              <a:path fill="lighten" w="263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39" h="21600">
                <a:moveTo>
                  <a:pt x="6163" y="7493"/>
                </a:moveTo>
                <a:lnTo>
                  <a:pt x="9671" y="7493"/>
                </a:lnTo>
                <a:lnTo>
                  <a:pt x="9671" y="12828"/>
                </a:lnTo>
                <a:cubicBezTo>
                  <a:pt x="9671" y="13751"/>
                  <a:pt x="10471" y="14482"/>
                  <a:pt x="11507" y="14482"/>
                </a:cubicBezTo>
                <a:lnTo>
                  <a:pt x="13169" y="14482"/>
                </a:lnTo>
                <a:cubicBezTo>
                  <a:pt x="14205" y="14482"/>
                  <a:pt x="15006" y="13751"/>
                  <a:pt x="15006" y="12828"/>
                </a:cubicBezTo>
                <a:lnTo>
                  <a:pt x="15006" y="7493"/>
                </a:lnTo>
                <a:lnTo>
                  <a:pt x="13169" y="7493"/>
                </a:lnTo>
                <a:lnTo>
                  <a:pt x="16677" y="3985"/>
                </a:lnTo>
                <a:lnTo>
                  <a:pt x="20350" y="7493"/>
                </a:lnTo>
                <a:lnTo>
                  <a:pt x="18513" y="7493"/>
                </a:lnTo>
                <a:lnTo>
                  <a:pt x="18513" y="12828"/>
                </a:lnTo>
                <a:cubicBezTo>
                  <a:pt x="18513" y="15596"/>
                  <a:pt x="15937" y="18155"/>
                  <a:pt x="13169" y="18155"/>
                </a:cubicBezTo>
                <a:lnTo>
                  <a:pt x="11507" y="18155"/>
                </a:lnTo>
                <a:cubicBezTo>
                  <a:pt x="8739" y="18155"/>
                  <a:pt x="6163" y="15596"/>
                  <a:pt x="616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700360" y="5084640"/>
            <a:ext cx="345600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Жучк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11280" y="1628640"/>
            <a:ext cx="82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87040" y="2059920"/>
            <a:ext cx="743508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Назовите единственную героин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сказки «Репка»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имя которой нам извест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1042920" y="5229360"/>
            <a:ext cx="100800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9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468360" y="249228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742160" y="163440"/>
            <a:ext cx="11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4 бал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1" action="ppaction://hlinksldjump"/>
          </p:cNvPr>
          <p:cNvSpPr/>
          <p:nvPr/>
        </p:nvSpPr>
        <p:spPr>
          <a:xfrm>
            <a:off x="8352000" y="6208560"/>
            <a:ext cx="792000" cy="6494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9440"/>
              <a:gd name="textAreaBottom" fmla="*/ 607680 h 649440"/>
            </a:gdLst>
            <a:ahLst/>
            <a:rect l="textAreaLeft" t="textAreaTop" r="textAreaRight" b="textAreaBottom"/>
            <a:pathLst>
              <a:path w="26339" h="21600">
                <a:moveTo>
                  <a:pt x="0" y="0"/>
                </a:moveTo>
                <a:lnTo>
                  <a:pt x="26339" y="0"/>
                </a:lnTo>
                <a:lnTo>
                  <a:pt x="26339" y="21600"/>
                </a:lnTo>
                <a:lnTo>
                  <a:pt x="0" y="21600"/>
                </a:lnTo>
                <a:close/>
              </a:path>
              <a:path fill="lightenLess" w="26339" h="21600">
                <a:moveTo>
                  <a:pt x="0" y="0"/>
                </a:moveTo>
                <a:lnTo>
                  <a:pt x="26339" y="0"/>
                </a:lnTo>
                <a:lnTo>
                  <a:pt x="24939" y="1400"/>
                </a:lnTo>
                <a:lnTo>
                  <a:pt x="1400" y="1400"/>
                </a:lnTo>
                <a:close/>
              </a:path>
              <a:path fill="darken" w="26339" h="21600">
                <a:moveTo>
                  <a:pt x="26339" y="0"/>
                </a:moveTo>
                <a:lnTo>
                  <a:pt x="26339" y="21600"/>
                </a:lnTo>
                <a:lnTo>
                  <a:pt x="24939" y="20200"/>
                </a:lnTo>
                <a:lnTo>
                  <a:pt x="24939" y="1400"/>
                </a:lnTo>
                <a:close/>
              </a:path>
              <a:path fill="darkenLess" w="26339" h="21600">
                <a:moveTo>
                  <a:pt x="263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39" y="20200"/>
                </a:lnTo>
                <a:close/>
              </a:path>
              <a:path fill="lighten" w="263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39" h="21600">
                <a:moveTo>
                  <a:pt x="6163" y="7493"/>
                </a:moveTo>
                <a:lnTo>
                  <a:pt x="9671" y="7493"/>
                </a:lnTo>
                <a:lnTo>
                  <a:pt x="9671" y="12828"/>
                </a:lnTo>
                <a:cubicBezTo>
                  <a:pt x="9671" y="13751"/>
                  <a:pt x="10471" y="14482"/>
                  <a:pt x="11507" y="14482"/>
                </a:cubicBezTo>
                <a:lnTo>
                  <a:pt x="13169" y="14482"/>
                </a:lnTo>
                <a:cubicBezTo>
                  <a:pt x="14205" y="14482"/>
                  <a:pt x="15006" y="13751"/>
                  <a:pt x="15006" y="12828"/>
                </a:cubicBezTo>
                <a:lnTo>
                  <a:pt x="15006" y="7493"/>
                </a:lnTo>
                <a:lnTo>
                  <a:pt x="13169" y="7493"/>
                </a:lnTo>
                <a:lnTo>
                  <a:pt x="16677" y="3985"/>
                </a:lnTo>
                <a:lnTo>
                  <a:pt x="20350" y="7493"/>
                </a:lnTo>
                <a:lnTo>
                  <a:pt x="18513" y="7493"/>
                </a:lnTo>
                <a:lnTo>
                  <a:pt x="18513" y="12828"/>
                </a:lnTo>
                <a:cubicBezTo>
                  <a:pt x="18513" y="15596"/>
                  <a:pt x="15937" y="18155"/>
                  <a:pt x="13169" y="18155"/>
                </a:cubicBezTo>
                <a:lnTo>
                  <a:pt x="11507" y="18155"/>
                </a:lnTo>
                <a:cubicBezTo>
                  <a:pt x="8739" y="18155"/>
                  <a:pt x="6163" y="15596"/>
                  <a:pt x="616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00360" y="5084640"/>
            <a:ext cx="345600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Кошкин дом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5280" y="1844640"/>
            <a:ext cx="8209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В какой сказке рассказывается о тяжких последствиях плохого состояния средств противопожарной безопаснос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042920" y="5229360"/>
            <a:ext cx="100800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9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4699080"/>
            <a:ext cx="2158920" cy="21589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0" y="836640"/>
            <a:ext cx="8964720" cy="4176720"/>
          </a:xfrm>
          <a:prstGeom prst="cloudCallout">
            <a:avLst>
              <a:gd name="adj1" fmla="val -23666"/>
              <a:gd name="adj2" fmla="val 68625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741800" y="163440"/>
            <a:ext cx="132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5 бал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>
            <a:hlinkClick r:id="rId2" action="ppaction://hlinksldjump"/>
          </p:cNvPr>
          <p:cNvSpPr/>
          <p:nvPr/>
        </p:nvSpPr>
        <p:spPr>
          <a:xfrm>
            <a:off x="8352000" y="6208560"/>
            <a:ext cx="792000" cy="6494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9440"/>
              <a:gd name="textAreaBottom" fmla="*/ 607680 h 649440"/>
            </a:gdLst>
            <a:ahLst/>
            <a:rect l="textAreaLeft" t="textAreaTop" r="textAreaRight" b="textAreaBottom"/>
            <a:pathLst>
              <a:path w="26339" h="21600">
                <a:moveTo>
                  <a:pt x="0" y="0"/>
                </a:moveTo>
                <a:lnTo>
                  <a:pt x="26339" y="0"/>
                </a:lnTo>
                <a:lnTo>
                  <a:pt x="26339" y="21600"/>
                </a:lnTo>
                <a:lnTo>
                  <a:pt x="0" y="21600"/>
                </a:lnTo>
                <a:close/>
              </a:path>
              <a:path fill="lightenLess" w="26339" h="21600">
                <a:moveTo>
                  <a:pt x="0" y="0"/>
                </a:moveTo>
                <a:lnTo>
                  <a:pt x="26339" y="0"/>
                </a:lnTo>
                <a:lnTo>
                  <a:pt x="24939" y="1400"/>
                </a:lnTo>
                <a:lnTo>
                  <a:pt x="1400" y="1400"/>
                </a:lnTo>
                <a:close/>
              </a:path>
              <a:path fill="darken" w="26339" h="21600">
                <a:moveTo>
                  <a:pt x="26339" y="0"/>
                </a:moveTo>
                <a:lnTo>
                  <a:pt x="26339" y="21600"/>
                </a:lnTo>
                <a:lnTo>
                  <a:pt x="24939" y="20200"/>
                </a:lnTo>
                <a:lnTo>
                  <a:pt x="24939" y="1400"/>
                </a:lnTo>
                <a:close/>
              </a:path>
              <a:path fill="darkenLess" w="26339" h="21600">
                <a:moveTo>
                  <a:pt x="263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39" y="20200"/>
                </a:lnTo>
                <a:close/>
              </a:path>
              <a:path fill="lighten" w="263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39" h="21600">
                <a:moveTo>
                  <a:pt x="6163" y="7493"/>
                </a:moveTo>
                <a:lnTo>
                  <a:pt x="9671" y="7493"/>
                </a:lnTo>
                <a:lnTo>
                  <a:pt x="9671" y="12828"/>
                </a:lnTo>
                <a:cubicBezTo>
                  <a:pt x="9671" y="13751"/>
                  <a:pt x="10471" y="14482"/>
                  <a:pt x="11507" y="14482"/>
                </a:cubicBezTo>
                <a:lnTo>
                  <a:pt x="13169" y="14482"/>
                </a:lnTo>
                <a:cubicBezTo>
                  <a:pt x="14205" y="14482"/>
                  <a:pt x="15006" y="13751"/>
                  <a:pt x="15006" y="12828"/>
                </a:cubicBezTo>
                <a:lnTo>
                  <a:pt x="15006" y="7493"/>
                </a:lnTo>
                <a:lnTo>
                  <a:pt x="13169" y="7493"/>
                </a:lnTo>
                <a:lnTo>
                  <a:pt x="16677" y="3985"/>
                </a:lnTo>
                <a:lnTo>
                  <a:pt x="20350" y="7493"/>
                </a:lnTo>
                <a:lnTo>
                  <a:pt x="18513" y="7493"/>
                </a:lnTo>
                <a:lnTo>
                  <a:pt x="18513" y="12828"/>
                </a:lnTo>
                <a:cubicBezTo>
                  <a:pt x="18513" y="15596"/>
                  <a:pt x="15937" y="18155"/>
                  <a:pt x="13169" y="18155"/>
                </a:cubicBezTo>
                <a:lnTo>
                  <a:pt x="11507" y="18155"/>
                </a:lnTo>
                <a:cubicBezTo>
                  <a:pt x="8739" y="18155"/>
                  <a:pt x="6163" y="15596"/>
                  <a:pt x="616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030560" y="4941720"/>
            <a:ext cx="511344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барон Мюнхгаузен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8360" y="1557360"/>
            <a:ext cx="8209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ТО из литературных героев вывернул волка наизнанку, застрелил бешеную шубу, вытащил себя из болота за косичку парика, не пал духом в желудке огромной рыбы, летал на ядре, побывал на Лун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473280" y="5684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71640" y="40464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9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9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8496360" y="4508640"/>
            <a:ext cx="647640" cy="547560"/>
          </a:xfrm>
          <a:custGeom>
            <a:avLst/>
            <a:gdLst>
              <a:gd name="textAreaLeft" fmla="*/ 200520 w 647640"/>
              <a:gd name="textAreaRight" fmla="*/ 447120 w 647640"/>
              <a:gd name="textAreaTop" fmla="*/ 169560 h 547560"/>
              <a:gd name="textAreaBottom" fmla="*/ 378000 h 547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5092" y="11910"/>
                </a:lnTo>
                <a:lnTo>
                  <a:pt x="786" y="14846"/>
                </a:lnTo>
                <a:lnTo>
                  <a:pt x="5923" y="13967"/>
                </a:lnTo>
                <a:lnTo>
                  <a:pt x="3163" y="18437"/>
                </a:lnTo>
                <a:lnTo>
                  <a:pt x="7548" y="15621"/>
                </a:lnTo>
                <a:lnTo>
                  <a:pt x="6580" y="20741"/>
                </a:lnTo>
                <a:lnTo>
                  <a:pt x="9591" y="16488"/>
                </a:lnTo>
                <a:lnTo>
                  <a:pt x="10800" y="21600"/>
                </a:lnTo>
                <a:lnTo>
                  <a:pt x="11910" y="16508"/>
                </a:lnTo>
                <a:lnTo>
                  <a:pt x="14846" y="20814"/>
                </a:lnTo>
                <a:lnTo>
                  <a:pt x="13967" y="15677"/>
                </a:lnTo>
                <a:lnTo>
                  <a:pt x="18437" y="18437"/>
                </a:lnTo>
                <a:lnTo>
                  <a:pt x="15621" y="14052"/>
                </a:lnTo>
                <a:lnTo>
                  <a:pt x="20741" y="15020"/>
                </a:lnTo>
                <a:lnTo>
                  <a:pt x="16488" y="12009"/>
                </a:lnTo>
                <a:lnTo>
                  <a:pt x="21600" y="10800"/>
                </a:lnTo>
                <a:lnTo>
                  <a:pt x="16508" y="9690"/>
                </a:lnTo>
                <a:lnTo>
                  <a:pt x="20814" y="6754"/>
                </a:lnTo>
                <a:lnTo>
                  <a:pt x="15677" y="7633"/>
                </a:lnTo>
                <a:lnTo>
                  <a:pt x="18437" y="3163"/>
                </a:lnTo>
                <a:lnTo>
                  <a:pt x="14052" y="5979"/>
                </a:lnTo>
                <a:lnTo>
                  <a:pt x="15020" y="859"/>
                </a:lnTo>
                <a:lnTo>
                  <a:pt x="12009" y="5112"/>
                </a:lnTo>
                <a:lnTo>
                  <a:pt x="10800" y="0"/>
                </a:lnTo>
                <a:lnTo>
                  <a:pt x="9690" y="5092"/>
                </a:lnTo>
                <a:lnTo>
                  <a:pt x="6754" y="786"/>
                </a:lnTo>
                <a:lnTo>
                  <a:pt x="7633" y="5923"/>
                </a:lnTo>
                <a:lnTo>
                  <a:pt x="3163" y="3163"/>
                </a:lnTo>
                <a:lnTo>
                  <a:pt x="5979" y="7548"/>
                </a:lnTo>
                <a:lnTo>
                  <a:pt x="859" y="6580"/>
                </a:lnTo>
                <a:lnTo>
                  <a:pt x="5112" y="9591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1" action="ppaction://hlinksldjump"/>
          </p:cNvPr>
          <p:cNvSpPr/>
          <p:nvPr/>
        </p:nvSpPr>
        <p:spPr>
          <a:xfrm>
            <a:off x="3203640" y="3860640"/>
            <a:ext cx="1042920" cy="1043280"/>
          </a:xfrm>
          <a:prstGeom prst="bevel">
            <a:avLst>
              <a:gd name="adj" fmla="val 12500"/>
            </a:avLst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2" action="ppaction://hlinksldjump"/>
          </p:cNvPr>
          <p:cNvSpPr/>
          <p:nvPr/>
        </p:nvSpPr>
        <p:spPr>
          <a:xfrm>
            <a:off x="5364000" y="620640"/>
            <a:ext cx="1043280" cy="1042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3" action="ppaction://hlinksldjump"/>
          </p:cNvPr>
          <p:cNvSpPr/>
          <p:nvPr/>
        </p:nvSpPr>
        <p:spPr>
          <a:xfrm>
            <a:off x="4284720" y="620640"/>
            <a:ext cx="1042920" cy="1042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84720" y="4941720"/>
            <a:ext cx="1042920" cy="1043280"/>
          </a:xfrm>
          <a:prstGeom prst="bevel">
            <a:avLst>
              <a:gd name="adj" fmla="val 125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941720"/>
            <a:ext cx="1042920" cy="1043280"/>
          </a:xfrm>
          <a:prstGeom prst="bevel">
            <a:avLst>
              <a:gd name="adj" fmla="val 125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4" action="ppaction://hlinksldjump"/>
          </p:cNvPr>
          <p:cNvSpPr/>
          <p:nvPr/>
        </p:nvSpPr>
        <p:spPr>
          <a:xfrm>
            <a:off x="7524720" y="2781360"/>
            <a:ext cx="1042920" cy="1042920"/>
          </a:xfrm>
          <a:prstGeom prst="bevel">
            <a:avLst>
              <a:gd name="adj" fmla="val 12500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284720" y="1700280"/>
            <a:ext cx="1042920" cy="1042920"/>
          </a:xfrm>
          <a:prstGeom prst="beve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5" action="ppaction://hlinksldjump"/>
          </p:cNvPr>
          <p:cNvSpPr/>
          <p:nvPr/>
        </p:nvSpPr>
        <p:spPr>
          <a:xfrm>
            <a:off x="5364000" y="1700280"/>
            <a:ext cx="1043280" cy="1042920"/>
          </a:xfrm>
          <a:prstGeom prst="beve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6" action="ppaction://hlinksldjump"/>
          </p:cNvPr>
          <p:cNvSpPr/>
          <p:nvPr/>
        </p:nvSpPr>
        <p:spPr>
          <a:xfrm>
            <a:off x="6443640" y="1700280"/>
            <a:ext cx="1042920" cy="1042920"/>
          </a:xfrm>
          <a:prstGeom prst="beve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7" action="ppaction://hlinksldjump"/>
          </p:cNvPr>
          <p:cNvSpPr/>
          <p:nvPr/>
        </p:nvSpPr>
        <p:spPr>
          <a:xfrm>
            <a:off x="4284720" y="3860640"/>
            <a:ext cx="1042920" cy="1043280"/>
          </a:xfrm>
          <a:prstGeom prst="bevel">
            <a:avLst>
              <a:gd name="adj" fmla="val 12500"/>
            </a:avLst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3640" y="1700280"/>
            <a:ext cx="1042920" cy="1042920"/>
          </a:xfrm>
          <a:prstGeom prst="beve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8" action="ppaction://hlinksldjump"/>
          </p:cNvPr>
          <p:cNvSpPr/>
          <p:nvPr/>
        </p:nvSpPr>
        <p:spPr>
          <a:xfrm>
            <a:off x="4284720" y="2781360"/>
            <a:ext cx="1042920" cy="1042920"/>
          </a:xfrm>
          <a:prstGeom prst="bevel">
            <a:avLst>
              <a:gd name="adj" fmla="val 12500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9" action="ppaction://hlinksldjump"/>
          </p:cNvPr>
          <p:cNvSpPr/>
          <p:nvPr/>
        </p:nvSpPr>
        <p:spPr>
          <a:xfrm>
            <a:off x="7524720" y="620640"/>
            <a:ext cx="1042920" cy="1042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10" action="ppaction://hlinksldjump"/>
          </p:cNvPr>
          <p:cNvSpPr/>
          <p:nvPr/>
        </p:nvSpPr>
        <p:spPr>
          <a:xfrm>
            <a:off x="7524720" y="3860640"/>
            <a:ext cx="1042920" cy="1043280"/>
          </a:xfrm>
          <a:prstGeom prst="bevel">
            <a:avLst>
              <a:gd name="adj" fmla="val 12500"/>
            </a:avLst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11" action="ppaction://hlinksldjump"/>
          </p:cNvPr>
          <p:cNvSpPr/>
          <p:nvPr/>
        </p:nvSpPr>
        <p:spPr>
          <a:xfrm>
            <a:off x="5364000" y="2781360"/>
            <a:ext cx="1043280" cy="1042920"/>
          </a:xfrm>
          <a:prstGeom prst="bevel">
            <a:avLst>
              <a:gd name="adj" fmla="val 12500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12" action="ppaction://hlinksldjump"/>
          </p:cNvPr>
          <p:cNvSpPr/>
          <p:nvPr/>
        </p:nvSpPr>
        <p:spPr>
          <a:xfrm>
            <a:off x="3203640" y="620640"/>
            <a:ext cx="1042920" cy="1042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13" action="ppaction://hlinksldjump"/>
          </p:cNvPr>
          <p:cNvSpPr/>
          <p:nvPr/>
        </p:nvSpPr>
        <p:spPr>
          <a:xfrm>
            <a:off x="5364000" y="3860640"/>
            <a:ext cx="1043280" cy="1043280"/>
          </a:xfrm>
          <a:prstGeom prst="bevel">
            <a:avLst>
              <a:gd name="adj" fmla="val 12500"/>
            </a:avLst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14" action="ppaction://hlinksldjump"/>
          </p:cNvPr>
          <p:cNvSpPr/>
          <p:nvPr/>
        </p:nvSpPr>
        <p:spPr>
          <a:xfrm>
            <a:off x="7524720" y="1700280"/>
            <a:ext cx="1042920" cy="1042920"/>
          </a:xfrm>
          <a:prstGeom prst="beve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03640" y="4941720"/>
            <a:ext cx="1042920" cy="1043280"/>
          </a:xfrm>
          <a:prstGeom prst="bevel">
            <a:avLst>
              <a:gd name="adj" fmla="val 125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03640" y="2781360"/>
            <a:ext cx="1042920" cy="1042920"/>
          </a:xfrm>
          <a:prstGeom prst="bevel">
            <a:avLst>
              <a:gd name="adj" fmla="val 12500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64000" y="4941720"/>
            <a:ext cx="1043280" cy="1043280"/>
          </a:xfrm>
          <a:prstGeom prst="bevel">
            <a:avLst>
              <a:gd name="adj" fmla="val 125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rId15" action="ppaction://hlinksldjump"/>
          </p:cNvPr>
          <p:cNvSpPr/>
          <p:nvPr/>
        </p:nvSpPr>
        <p:spPr>
          <a:xfrm>
            <a:off x="6443640" y="620640"/>
            <a:ext cx="1042920" cy="1042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24720" y="4941720"/>
            <a:ext cx="1042920" cy="1043280"/>
          </a:xfrm>
          <a:prstGeom prst="bevel">
            <a:avLst>
              <a:gd name="adj" fmla="val 125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rId16" action="ppaction://hlinksldjump"/>
          </p:cNvPr>
          <p:cNvSpPr/>
          <p:nvPr/>
        </p:nvSpPr>
        <p:spPr>
          <a:xfrm>
            <a:off x="6443640" y="2781360"/>
            <a:ext cx="1042920" cy="1042920"/>
          </a:xfrm>
          <a:prstGeom prst="bevel">
            <a:avLst>
              <a:gd name="adj" fmla="val 12500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rId17" action="ppaction://hlinksldjump"/>
          </p:cNvPr>
          <p:cNvSpPr/>
          <p:nvPr/>
        </p:nvSpPr>
        <p:spPr>
          <a:xfrm>
            <a:off x="6443640" y="3860640"/>
            <a:ext cx="1042920" cy="1043280"/>
          </a:xfrm>
          <a:prstGeom prst="bevel">
            <a:avLst>
              <a:gd name="adj" fmla="val 12500"/>
            </a:avLst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55640" y="836640"/>
            <a:ext cx="23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907920"/>
            <a:ext cx="26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4160" y="836640"/>
            <a:ext cx="171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 теат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1773360"/>
            <a:ext cx="187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Холодные вопро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7240" y="2924280"/>
            <a:ext cx="177624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гостя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 сказ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9280" y="4149720"/>
            <a:ext cx="191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уль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4520" y="4941720"/>
            <a:ext cx="1834200" cy="9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"Крыль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оги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хвосты"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>
            <a:hlinkClick r:id="rId18" action="ppaction://hlinksldjump"/>
          </p:cNvPr>
          <p:cNvSpPr/>
          <p:nvPr/>
        </p:nvSpPr>
        <p:spPr>
          <a:xfrm>
            <a:off x="3203640" y="620640"/>
            <a:ext cx="1042920" cy="1042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rId19" action="ppaction://hlinksldjump"/>
          </p:cNvPr>
          <p:cNvSpPr/>
          <p:nvPr/>
        </p:nvSpPr>
        <p:spPr>
          <a:xfrm>
            <a:off x="2124000" y="620640"/>
            <a:ext cx="1042920" cy="1042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>
            <a:hlinkClick r:id="rId20" action="ppaction://hlinksldjump"/>
          </p:cNvPr>
          <p:cNvSpPr/>
          <p:nvPr/>
        </p:nvSpPr>
        <p:spPr>
          <a:xfrm>
            <a:off x="2124000" y="1700280"/>
            <a:ext cx="1042920" cy="1042920"/>
          </a:xfrm>
          <a:prstGeom prst="beve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rId21" action="ppaction://hlinksldjump"/>
          </p:cNvPr>
          <p:cNvSpPr/>
          <p:nvPr/>
        </p:nvSpPr>
        <p:spPr>
          <a:xfrm>
            <a:off x="2124000" y="2781360"/>
            <a:ext cx="1042920" cy="1042920"/>
          </a:xfrm>
          <a:prstGeom prst="bevel">
            <a:avLst>
              <a:gd name="adj" fmla="val 12500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rId22" action="ppaction://hlinksldjump"/>
          </p:cNvPr>
          <p:cNvSpPr/>
          <p:nvPr/>
        </p:nvSpPr>
        <p:spPr>
          <a:xfrm>
            <a:off x="2124000" y="3860640"/>
            <a:ext cx="1042920" cy="1043280"/>
          </a:xfrm>
          <a:prstGeom prst="bevel">
            <a:avLst>
              <a:gd name="adj" fmla="val 12500"/>
            </a:avLst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>
            <a:hlinkClick r:id="rId23" action="ppaction://hlinksldjump"/>
          </p:cNvPr>
          <p:cNvSpPr/>
          <p:nvPr/>
        </p:nvSpPr>
        <p:spPr>
          <a:xfrm>
            <a:off x="2124000" y="4941720"/>
            <a:ext cx="1042920" cy="1043280"/>
          </a:xfrm>
          <a:prstGeom prst="bevel">
            <a:avLst>
              <a:gd name="adj" fmla="val 125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>
            <a:hlinkClick r:id="" action="ppaction://hlinkshowjump?jump=lastslide"/>
          </p:cNvPr>
          <p:cNvSpPr/>
          <p:nvPr/>
        </p:nvSpPr>
        <p:spPr>
          <a:xfrm>
            <a:off x="468360" y="6165720"/>
            <a:ext cx="647640" cy="547920"/>
          </a:xfrm>
          <a:custGeom>
            <a:avLst/>
            <a:gdLst>
              <a:gd name="textAreaLeft" fmla="*/ 200520 w 647640"/>
              <a:gd name="textAreaRight" fmla="*/ 447120 w 647640"/>
              <a:gd name="textAreaTop" fmla="*/ 169560 h 547920"/>
              <a:gd name="textAreaBottom" fmla="*/ 378360 h 547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5092" y="11910"/>
                </a:lnTo>
                <a:lnTo>
                  <a:pt x="786" y="14846"/>
                </a:lnTo>
                <a:lnTo>
                  <a:pt x="5923" y="13967"/>
                </a:lnTo>
                <a:lnTo>
                  <a:pt x="3163" y="18437"/>
                </a:lnTo>
                <a:lnTo>
                  <a:pt x="7548" y="15621"/>
                </a:lnTo>
                <a:lnTo>
                  <a:pt x="6580" y="20741"/>
                </a:lnTo>
                <a:lnTo>
                  <a:pt x="9591" y="16488"/>
                </a:lnTo>
                <a:lnTo>
                  <a:pt x="10800" y="21600"/>
                </a:lnTo>
                <a:lnTo>
                  <a:pt x="11910" y="16508"/>
                </a:lnTo>
                <a:lnTo>
                  <a:pt x="14846" y="20814"/>
                </a:lnTo>
                <a:lnTo>
                  <a:pt x="13967" y="15677"/>
                </a:lnTo>
                <a:lnTo>
                  <a:pt x="18437" y="18437"/>
                </a:lnTo>
                <a:lnTo>
                  <a:pt x="15621" y="14052"/>
                </a:lnTo>
                <a:lnTo>
                  <a:pt x="20741" y="15020"/>
                </a:lnTo>
                <a:lnTo>
                  <a:pt x="16488" y="12009"/>
                </a:lnTo>
                <a:lnTo>
                  <a:pt x="21600" y="10800"/>
                </a:lnTo>
                <a:lnTo>
                  <a:pt x="16508" y="9690"/>
                </a:lnTo>
                <a:lnTo>
                  <a:pt x="20814" y="6754"/>
                </a:lnTo>
                <a:lnTo>
                  <a:pt x="15677" y="7633"/>
                </a:lnTo>
                <a:lnTo>
                  <a:pt x="18437" y="3163"/>
                </a:lnTo>
                <a:lnTo>
                  <a:pt x="14052" y="5979"/>
                </a:lnTo>
                <a:lnTo>
                  <a:pt x="15020" y="859"/>
                </a:lnTo>
                <a:lnTo>
                  <a:pt x="12009" y="5112"/>
                </a:lnTo>
                <a:lnTo>
                  <a:pt x="10800" y="0"/>
                </a:lnTo>
                <a:lnTo>
                  <a:pt x="9690" y="5092"/>
                </a:lnTo>
                <a:lnTo>
                  <a:pt x="6754" y="786"/>
                </a:lnTo>
                <a:lnTo>
                  <a:pt x="7633" y="5923"/>
                </a:lnTo>
                <a:lnTo>
                  <a:pt x="3163" y="3163"/>
                </a:lnTo>
                <a:lnTo>
                  <a:pt x="5979" y="7548"/>
                </a:lnTo>
                <a:lnTo>
                  <a:pt x="859" y="6580"/>
                </a:lnTo>
                <a:lnTo>
                  <a:pt x="5112" y="9591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496360" y="189000"/>
            <a:ext cx="647640" cy="547560"/>
          </a:xfrm>
          <a:custGeom>
            <a:avLst/>
            <a:gdLst>
              <a:gd name="textAreaLeft" fmla="*/ 200520 w 647640"/>
              <a:gd name="textAreaRight" fmla="*/ 447120 w 647640"/>
              <a:gd name="textAreaTop" fmla="*/ 169560 h 547560"/>
              <a:gd name="textAreaBottom" fmla="*/ 378000 h 547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5092" y="11910"/>
                </a:lnTo>
                <a:lnTo>
                  <a:pt x="786" y="14846"/>
                </a:lnTo>
                <a:lnTo>
                  <a:pt x="5923" y="13967"/>
                </a:lnTo>
                <a:lnTo>
                  <a:pt x="3163" y="18437"/>
                </a:lnTo>
                <a:lnTo>
                  <a:pt x="7548" y="15621"/>
                </a:lnTo>
                <a:lnTo>
                  <a:pt x="6580" y="20741"/>
                </a:lnTo>
                <a:lnTo>
                  <a:pt x="9591" y="16488"/>
                </a:lnTo>
                <a:lnTo>
                  <a:pt x="10800" y="21600"/>
                </a:lnTo>
                <a:lnTo>
                  <a:pt x="11910" y="16508"/>
                </a:lnTo>
                <a:lnTo>
                  <a:pt x="14846" y="20814"/>
                </a:lnTo>
                <a:lnTo>
                  <a:pt x="13967" y="15677"/>
                </a:lnTo>
                <a:lnTo>
                  <a:pt x="18437" y="18437"/>
                </a:lnTo>
                <a:lnTo>
                  <a:pt x="15621" y="14052"/>
                </a:lnTo>
                <a:lnTo>
                  <a:pt x="20741" y="15020"/>
                </a:lnTo>
                <a:lnTo>
                  <a:pt x="16488" y="12009"/>
                </a:lnTo>
                <a:lnTo>
                  <a:pt x="21600" y="10800"/>
                </a:lnTo>
                <a:lnTo>
                  <a:pt x="16508" y="9690"/>
                </a:lnTo>
                <a:lnTo>
                  <a:pt x="20814" y="6754"/>
                </a:lnTo>
                <a:lnTo>
                  <a:pt x="15677" y="7633"/>
                </a:lnTo>
                <a:lnTo>
                  <a:pt x="18437" y="3163"/>
                </a:lnTo>
                <a:lnTo>
                  <a:pt x="14052" y="5979"/>
                </a:lnTo>
                <a:lnTo>
                  <a:pt x="15020" y="859"/>
                </a:lnTo>
                <a:lnTo>
                  <a:pt x="12009" y="5112"/>
                </a:lnTo>
                <a:lnTo>
                  <a:pt x="10800" y="0"/>
                </a:lnTo>
                <a:lnTo>
                  <a:pt x="9690" y="5092"/>
                </a:lnTo>
                <a:lnTo>
                  <a:pt x="6754" y="786"/>
                </a:lnTo>
                <a:lnTo>
                  <a:pt x="7633" y="5923"/>
                </a:lnTo>
                <a:lnTo>
                  <a:pt x="3163" y="3163"/>
                </a:lnTo>
                <a:lnTo>
                  <a:pt x="5979" y="7548"/>
                </a:lnTo>
                <a:lnTo>
                  <a:pt x="859" y="6580"/>
                </a:lnTo>
                <a:lnTo>
                  <a:pt x="5112" y="9591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258920" y="189000"/>
            <a:ext cx="647640" cy="547560"/>
          </a:xfrm>
          <a:custGeom>
            <a:avLst/>
            <a:gdLst>
              <a:gd name="textAreaLeft" fmla="*/ 200520 w 647640"/>
              <a:gd name="textAreaRight" fmla="*/ 447120 w 647640"/>
              <a:gd name="textAreaTop" fmla="*/ 169560 h 547560"/>
              <a:gd name="textAreaBottom" fmla="*/ 378000 h 547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5092" y="11910"/>
                </a:lnTo>
                <a:lnTo>
                  <a:pt x="786" y="14846"/>
                </a:lnTo>
                <a:lnTo>
                  <a:pt x="5923" y="13967"/>
                </a:lnTo>
                <a:lnTo>
                  <a:pt x="3163" y="18437"/>
                </a:lnTo>
                <a:lnTo>
                  <a:pt x="7548" y="15621"/>
                </a:lnTo>
                <a:lnTo>
                  <a:pt x="6580" y="20741"/>
                </a:lnTo>
                <a:lnTo>
                  <a:pt x="9591" y="16488"/>
                </a:lnTo>
                <a:lnTo>
                  <a:pt x="10800" y="21600"/>
                </a:lnTo>
                <a:lnTo>
                  <a:pt x="11910" y="16508"/>
                </a:lnTo>
                <a:lnTo>
                  <a:pt x="14846" y="20814"/>
                </a:lnTo>
                <a:lnTo>
                  <a:pt x="13967" y="15677"/>
                </a:lnTo>
                <a:lnTo>
                  <a:pt x="18437" y="18437"/>
                </a:lnTo>
                <a:lnTo>
                  <a:pt x="15621" y="14052"/>
                </a:lnTo>
                <a:lnTo>
                  <a:pt x="20741" y="15020"/>
                </a:lnTo>
                <a:lnTo>
                  <a:pt x="16488" y="12009"/>
                </a:lnTo>
                <a:lnTo>
                  <a:pt x="21600" y="10800"/>
                </a:lnTo>
                <a:lnTo>
                  <a:pt x="16508" y="9690"/>
                </a:lnTo>
                <a:lnTo>
                  <a:pt x="20814" y="6754"/>
                </a:lnTo>
                <a:lnTo>
                  <a:pt x="15677" y="7633"/>
                </a:lnTo>
                <a:lnTo>
                  <a:pt x="18437" y="3163"/>
                </a:lnTo>
                <a:lnTo>
                  <a:pt x="14052" y="5979"/>
                </a:lnTo>
                <a:lnTo>
                  <a:pt x="15020" y="859"/>
                </a:lnTo>
                <a:lnTo>
                  <a:pt x="12009" y="5112"/>
                </a:lnTo>
                <a:lnTo>
                  <a:pt x="10800" y="0"/>
                </a:lnTo>
                <a:lnTo>
                  <a:pt x="9690" y="5092"/>
                </a:lnTo>
                <a:lnTo>
                  <a:pt x="6754" y="786"/>
                </a:lnTo>
                <a:lnTo>
                  <a:pt x="7633" y="5923"/>
                </a:lnTo>
                <a:lnTo>
                  <a:pt x="3163" y="3163"/>
                </a:lnTo>
                <a:lnTo>
                  <a:pt x="5979" y="7548"/>
                </a:lnTo>
                <a:lnTo>
                  <a:pt x="859" y="6580"/>
                </a:lnTo>
                <a:lnTo>
                  <a:pt x="5112" y="9591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340000" y="6165720"/>
            <a:ext cx="647640" cy="547920"/>
          </a:xfrm>
          <a:custGeom>
            <a:avLst/>
            <a:gdLst>
              <a:gd name="textAreaLeft" fmla="*/ 200520 w 647640"/>
              <a:gd name="textAreaRight" fmla="*/ 447120 w 647640"/>
              <a:gd name="textAreaTop" fmla="*/ 169560 h 547920"/>
              <a:gd name="textAreaBottom" fmla="*/ 378360 h 547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5092" y="11910"/>
                </a:lnTo>
                <a:lnTo>
                  <a:pt x="786" y="14846"/>
                </a:lnTo>
                <a:lnTo>
                  <a:pt x="5923" y="13967"/>
                </a:lnTo>
                <a:lnTo>
                  <a:pt x="3163" y="18437"/>
                </a:lnTo>
                <a:lnTo>
                  <a:pt x="7548" y="15621"/>
                </a:lnTo>
                <a:lnTo>
                  <a:pt x="6580" y="20741"/>
                </a:lnTo>
                <a:lnTo>
                  <a:pt x="9591" y="16488"/>
                </a:lnTo>
                <a:lnTo>
                  <a:pt x="10800" y="21600"/>
                </a:lnTo>
                <a:lnTo>
                  <a:pt x="11910" y="16508"/>
                </a:lnTo>
                <a:lnTo>
                  <a:pt x="14846" y="20814"/>
                </a:lnTo>
                <a:lnTo>
                  <a:pt x="13967" y="15677"/>
                </a:lnTo>
                <a:lnTo>
                  <a:pt x="18437" y="18437"/>
                </a:lnTo>
                <a:lnTo>
                  <a:pt x="15621" y="14052"/>
                </a:lnTo>
                <a:lnTo>
                  <a:pt x="20741" y="15020"/>
                </a:lnTo>
                <a:lnTo>
                  <a:pt x="16488" y="12009"/>
                </a:lnTo>
                <a:lnTo>
                  <a:pt x="21600" y="10800"/>
                </a:lnTo>
                <a:lnTo>
                  <a:pt x="16508" y="9690"/>
                </a:lnTo>
                <a:lnTo>
                  <a:pt x="20814" y="6754"/>
                </a:lnTo>
                <a:lnTo>
                  <a:pt x="15677" y="7633"/>
                </a:lnTo>
                <a:lnTo>
                  <a:pt x="18437" y="3163"/>
                </a:lnTo>
                <a:lnTo>
                  <a:pt x="14052" y="5979"/>
                </a:lnTo>
                <a:lnTo>
                  <a:pt x="15020" y="859"/>
                </a:lnTo>
                <a:lnTo>
                  <a:pt x="12009" y="5112"/>
                </a:lnTo>
                <a:lnTo>
                  <a:pt x="10800" y="0"/>
                </a:lnTo>
                <a:lnTo>
                  <a:pt x="9690" y="5092"/>
                </a:lnTo>
                <a:lnTo>
                  <a:pt x="6754" y="786"/>
                </a:lnTo>
                <a:lnTo>
                  <a:pt x="7633" y="5923"/>
                </a:lnTo>
                <a:lnTo>
                  <a:pt x="3163" y="3163"/>
                </a:lnTo>
                <a:lnTo>
                  <a:pt x="5979" y="7548"/>
                </a:lnTo>
                <a:lnTo>
                  <a:pt x="859" y="6580"/>
                </a:lnTo>
                <a:lnTo>
                  <a:pt x="5112" y="9591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651640" y="6310440"/>
            <a:ext cx="647640" cy="547560"/>
          </a:xfrm>
          <a:custGeom>
            <a:avLst/>
            <a:gdLst>
              <a:gd name="textAreaLeft" fmla="*/ 200520 w 647640"/>
              <a:gd name="textAreaRight" fmla="*/ 447120 w 647640"/>
              <a:gd name="textAreaTop" fmla="*/ 169560 h 547560"/>
              <a:gd name="textAreaBottom" fmla="*/ 378000 h 547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5092" y="11910"/>
                </a:lnTo>
                <a:lnTo>
                  <a:pt x="786" y="14846"/>
                </a:lnTo>
                <a:lnTo>
                  <a:pt x="5923" y="13967"/>
                </a:lnTo>
                <a:lnTo>
                  <a:pt x="3163" y="18437"/>
                </a:lnTo>
                <a:lnTo>
                  <a:pt x="7548" y="15621"/>
                </a:lnTo>
                <a:lnTo>
                  <a:pt x="6580" y="20741"/>
                </a:lnTo>
                <a:lnTo>
                  <a:pt x="9591" y="16488"/>
                </a:lnTo>
                <a:lnTo>
                  <a:pt x="10800" y="21600"/>
                </a:lnTo>
                <a:lnTo>
                  <a:pt x="11910" y="16508"/>
                </a:lnTo>
                <a:lnTo>
                  <a:pt x="14846" y="20814"/>
                </a:lnTo>
                <a:lnTo>
                  <a:pt x="13967" y="15677"/>
                </a:lnTo>
                <a:lnTo>
                  <a:pt x="18437" y="18437"/>
                </a:lnTo>
                <a:lnTo>
                  <a:pt x="15621" y="14052"/>
                </a:lnTo>
                <a:lnTo>
                  <a:pt x="20741" y="15020"/>
                </a:lnTo>
                <a:lnTo>
                  <a:pt x="16488" y="12009"/>
                </a:lnTo>
                <a:lnTo>
                  <a:pt x="21600" y="10800"/>
                </a:lnTo>
                <a:lnTo>
                  <a:pt x="16508" y="9690"/>
                </a:lnTo>
                <a:lnTo>
                  <a:pt x="20814" y="6754"/>
                </a:lnTo>
                <a:lnTo>
                  <a:pt x="15677" y="7633"/>
                </a:lnTo>
                <a:lnTo>
                  <a:pt x="18437" y="3163"/>
                </a:lnTo>
                <a:lnTo>
                  <a:pt x="14052" y="5979"/>
                </a:lnTo>
                <a:lnTo>
                  <a:pt x="15020" y="859"/>
                </a:lnTo>
                <a:lnTo>
                  <a:pt x="12009" y="5112"/>
                </a:lnTo>
                <a:lnTo>
                  <a:pt x="10800" y="0"/>
                </a:lnTo>
                <a:lnTo>
                  <a:pt x="9690" y="5092"/>
                </a:lnTo>
                <a:lnTo>
                  <a:pt x="6754" y="786"/>
                </a:lnTo>
                <a:lnTo>
                  <a:pt x="7633" y="5923"/>
                </a:lnTo>
                <a:lnTo>
                  <a:pt x="3163" y="3163"/>
                </a:lnTo>
                <a:lnTo>
                  <a:pt x="5979" y="7548"/>
                </a:lnTo>
                <a:lnTo>
                  <a:pt x="859" y="6580"/>
                </a:lnTo>
                <a:lnTo>
                  <a:pt x="5112" y="9591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268280"/>
            <a:ext cx="647640" cy="547920"/>
          </a:xfrm>
          <a:custGeom>
            <a:avLst/>
            <a:gdLst>
              <a:gd name="textAreaLeft" fmla="*/ 200520 w 647640"/>
              <a:gd name="textAreaRight" fmla="*/ 447120 w 647640"/>
              <a:gd name="textAreaTop" fmla="*/ 169560 h 547920"/>
              <a:gd name="textAreaBottom" fmla="*/ 378360 h 547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5092" y="11910"/>
                </a:lnTo>
                <a:lnTo>
                  <a:pt x="786" y="14846"/>
                </a:lnTo>
                <a:lnTo>
                  <a:pt x="5923" y="13967"/>
                </a:lnTo>
                <a:lnTo>
                  <a:pt x="3163" y="18437"/>
                </a:lnTo>
                <a:lnTo>
                  <a:pt x="7548" y="15621"/>
                </a:lnTo>
                <a:lnTo>
                  <a:pt x="6580" y="20741"/>
                </a:lnTo>
                <a:lnTo>
                  <a:pt x="9591" y="16488"/>
                </a:lnTo>
                <a:lnTo>
                  <a:pt x="10800" y="21600"/>
                </a:lnTo>
                <a:lnTo>
                  <a:pt x="11910" y="16508"/>
                </a:lnTo>
                <a:lnTo>
                  <a:pt x="14846" y="20814"/>
                </a:lnTo>
                <a:lnTo>
                  <a:pt x="13967" y="15677"/>
                </a:lnTo>
                <a:lnTo>
                  <a:pt x="18437" y="18437"/>
                </a:lnTo>
                <a:lnTo>
                  <a:pt x="15621" y="14052"/>
                </a:lnTo>
                <a:lnTo>
                  <a:pt x="20741" y="15020"/>
                </a:lnTo>
                <a:lnTo>
                  <a:pt x="16488" y="12009"/>
                </a:lnTo>
                <a:lnTo>
                  <a:pt x="21600" y="10800"/>
                </a:lnTo>
                <a:lnTo>
                  <a:pt x="16508" y="9690"/>
                </a:lnTo>
                <a:lnTo>
                  <a:pt x="20814" y="6754"/>
                </a:lnTo>
                <a:lnTo>
                  <a:pt x="15677" y="7633"/>
                </a:lnTo>
                <a:lnTo>
                  <a:pt x="18437" y="3163"/>
                </a:lnTo>
                <a:lnTo>
                  <a:pt x="14052" y="5979"/>
                </a:lnTo>
                <a:lnTo>
                  <a:pt x="15020" y="859"/>
                </a:lnTo>
                <a:lnTo>
                  <a:pt x="12009" y="5112"/>
                </a:lnTo>
                <a:lnTo>
                  <a:pt x="10800" y="0"/>
                </a:lnTo>
                <a:lnTo>
                  <a:pt x="9690" y="5092"/>
                </a:lnTo>
                <a:lnTo>
                  <a:pt x="6754" y="786"/>
                </a:lnTo>
                <a:lnTo>
                  <a:pt x="7633" y="5923"/>
                </a:lnTo>
                <a:lnTo>
                  <a:pt x="3163" y="3163"/>
                </a:lnTo>
                <a:lnTo>
                  <a:pt x="5979" y="7548"/>
                </a:lnTo>
                <a:lnTo>
                  <a:pt x="859" y="6580"/>
                </a:lnTo>
                <a:lnTo>
                  <a:pt x="5112" y="9591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5640" y="3645000"/>
            <a:ext cx="647640" cy="547560"/>
          </a:xfrm>
          <a:custGeom>
            <a:avLst/>
            <a:gdLst>
              <a:gd name="textAreaLeft" fmla="*/ 200520 w 647640"/>
              <a:gd name="textAreaRight" fmla="*/ 447120 w 647640"/>
              <a:gd name="textAreaTop" fmla="*/ 169560 h 547560"/>
              <a:gd name="textAreaBottom" fmla="*/ 378000 h 547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5092" y="11910"/>
                </a:lnTo>
                <a:lnTo>
                  <a:pt x="786" y="14846"/>
                </a:lnTo>
                <a:lnTo>
                  <a:pt x="5923" y="13967"/>
                </a:lnTo>
                <a:lnTo>
                  <a:pt x="3163" y="18437"/>
                </a:lnTo>
                <a:lnTo>
                  <a:pt x="7548" y="15621"/>
                </a:lnTo>
                <a:lnTo>
                  <a:pt x="6580" y="20741"/>
                </a:lnTo>
                <a:lnTo>
                  <a:pt x="9591" y="16488"/>
                </a:lnTo>
                <a:lnTo>
                  <a:pt x="10800" y="21600"/>
                </a:lnTo>
                <a:lnTo>
                  <a:pt x="11910" y="16508"/>
                </a:lnTo>
                <a:lnTo>
                  <a:pt x="14846" y="20814"/>
                </a:lnTo>
                <a:lnTo>
                  <a:pt x="13967" y="15677"/>
                </a:lnTo>
                <a:lnTo>
                  <a:pt x="18437" y="18437"/>
                </a:lnTo>
                <a:lnTo>
                  <a:pt x="15621" y="14052"/>
                </a:lnTo>
                <a:lnTo>
                  <a:pt x="20741" y="15020"/>
                </a:lnTo>
                <a:lnTo>
                  <a:pt x="16488" y="12009"/>
                </a:lnTo>
                <a:lnTo>
                  <a:pt x="21600" y="10800"/>
                </a:lnTo>
                <a:lnTo>
                  <a:pt x="16508" y="9690"/>
                </a:lnTo>
                <a:lnTo>
                  <a:pt x="20814" y="6754"/>
                </a:lnTo>
                <a:lnTo>
                  <a:pt x="15677" y="7633"/>
                </a:lnTo>
                <a:lnTo>
                  <a:pt x="18437" y="3163"/>
                </a:lnTo>
                <a:lnTo>
                  <a:pt x="14052" y="5979"/>
                </a:lnTo>
                <a:lnTo>
                  <a:pt x="15020" y="859"/>
                </a:lnTo>
                <a:lnTo>
                  <a:pt x="12009" y="5112"/>
                </a:lnTo>
                <a:lnTo>
                  <a:pt x="10800" y="0"/>
                </a:lnTo>
                <a:lnTo>
                  <a:pt x="9690" y="5092"/>
                </a:lnTo>
                <a:lnTo>
                  <a:pt x="6754" y="786"/>
                </a:lnTo>
                <a:lnTo>
                  <a:pt x="7633" y="5923"/>
                </a:lnTo>
                <a:lnTo>
                  <a:pt x="3163" y="3163"/>
                </a:lnTo>
                <a:lnTo>
                  <a:pt x="5979" y="7548"/>
                </a:lnTo>
                <a:lnTo>
                  <a:pt x="859" y="6580"/>
                </a:lnTo>
                <a:lnTo>
                  <a:pt x="5112" y="9591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435640" y="0"/>
            <a:ext cx="647640" cy="547560"/>
          </a:xfrm>
          <a:custGeom>
            <a:avLst/>
            <a:gdLst>
              <a:gd name="textAreaLeft" fmla="*/ 200520 w 647640"/>
              <a:gd name="textAreaRight" fmla="*/ 447120 w 647640"/>
              <a:gd name="textAreaTop" fmla="*/ 169560 h 547560"/>
              <a:gd name="textAreaBottom" fmla="*/ 378000 h 547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5092" y="11910"/>
                </a:lnTo>
                <a:lnTo>
                  <a:pt x="786" y="14846"/>
                </a:lnTo>
                <a:lnTo>
                  <a:pt x="5923" y="13967"/>
                </a:lnTo>
                <a:lnTo>
                  <a:pt x="3163" y="18437"/>
                </a:lnTo>
                <a:lnTo>
                  <a:pt x="7548" y="15621"/>
                </a:lnTo>
                <a:lnTo>
                  <a:pt x="6580" y="20741"/>
                </a:lnTo>
                <a:lnTo>
                  <a:pt x="9591" y="16488"/>
                </a:lnTo>
                <a:lnTo>
                  <a:pt x="10800" y="21600"/>
                </a:lnTo>
                <a:lnTo>
                  <a:pt x="11910" y="16508"/>
                </a:lnTo>
                <a:lnTo>
                  <a:pt x="14846" y="20814"/>
                </a:lnTo>
                <a:lnTo>
                  <a:pt x="13967" y="15677"/>
                </a:lnTo>
                <a:lnTo>
                  <a:pt x="18437" y="18437"/>
                </a:lnTo>
                <a:lnTo>
                  <a:pt x="15621" y="14052"/>
                </a:lnTo>
                <a:lnTo>
                  <a:pt x="20741" y="15020"/>
                </a:lnTo>
                <a:lnTo>
                  <a:pt x="16488" y="12009"/>
                </a:lnTo>
                <a:lnTo>
                  <a:pt x="21600" y="10800"/>
                </a:lnTo>
                <a:lnTo>
                  <a:pt x="16508" y="9690"/>
                </a:lnTo>
                <a:lnTo>
                  <a:pt x="20814" y="6754"/>
                </a:lnTo>
                <a:lnTo>
                  <a:pt x="15677" y="7633"/>
                </a:lnTo>
                <a:lnTo>
                  <a:pt x="18437" y="3163"/>
                </a:lnTo>
                <a:lnTo>
                  <a:pt x="14052" y="5979"/>
                </a:lnTo>
                <a:lnTo>
                  <a:pt x="15020" y="859"/>
                </a:lnTo>
                <a:lnTo>
                  <a:pt x="12009" y="5112"/>
                </a:lnTo>
                <a:lnTo>
                  <a:pt x="10800" y="0"/>
                </a:lnTo>
                <a:lnTo>
                  <a:pt x="9690" y="5092"/>
                </a:lnTo>
                <a:lnTo>
                  <a:pt x="6754" y="786"/>
                </a:lnTo>
                <a:lnTo>
                  <a:pt x="7633" y="5923"/>
                </a:lnTo>
                <a:lnTo>
                  <a:pt x="3163" y="3163"/>
                </a:lnTo>
                <a:lnTo>
                  <a:pt x="5979" y="7548"/>
                </a:lnTo>
                <a:lnTo>
                  <a:pt x="859" y="6580"/>
                </a:lnTo>
                <a:lnTo>
                  <a:pt x="5112" y="9591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94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119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34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39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144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49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154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159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7741800" y="163440"/>
            <a:ext cx="132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6 бал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rId1" action="ppaction://hlinksldjump"/>
          </p:cNvPr>
          <p:cNvSpPr/>
          <p:nvPr/>
        </p:nvSpPr>
        <p:spPr>
          <a:xfrm>
            <a:off x="8352000" y="6208560"/>
            <a:ext cx="792000" cy="6494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9440"/>
              <a:gd name="textAreaBottom" fmla="*/ 607680 h 649440"/>
            </a:gdLst>
            <a:ahLst/>
            <a:rect l="textAreaLeft" t="textAreaTop" r="textAreaRight" b="textAreaBottom"/>
            <a:pathLst>
              <a:path w="26339" h="21600">
                <a:moveTo>
                  <a:pt x="0" y="0"/>
                </a:moveTo>
                <a:lnTo>
                  <a:pt x="26339" y="0"/>
                </a:lnTo>
                <a:lnTo>
                  <a:pt x="26339" y="21600"/>
                </a:lnTo>
                <a:lnTo>
                  <a:pt x="0" y="21600"/>
                </a:lnTo>
                <a:close/>
              </a:path>
              <a:path fill="lightenLess" w="26339" h="21600">
                <a:moveTo>
                  <a:pt x="0" y="0"/>
                </a:moveTo>
                <a:lnTo>
                  <a:pt x="26339" y="0"/>
                </a:lnTo>
                <a:lnTo>
                  <a:pt x="24939" y="1400"/>
                </a:lnTo>
                <a:lnTo>
                  <a:pt x="1400" y="1400"/>
                </a:lnTo>
                <a:close/>
              </a:path>
              <a:path fill="darken" w="26339" h="21600">
                <a:moveTo>
                  <a:pt x="26339" y="0"/>
                </a:moveTo>
                <a:lnTo>
                  <a:pt x="26339" y="21600"/>
                </a:lnTo>
                <a:lnTo>
                  <a:pt x="24939" y="20200"/>
                </a:lnTo>
                <a:lnTo>
                  <a:pt x="24939" y="1400"/>
                </a:lnTo>
                <a:close/>
              </a:path>
              <a:path fill="darkenLess" w="26339" h="21600">
                <a:moveTo>
                  <a:pt x="263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39" y="20200"/>
                </a:lnTo>
                <a:close/>
              </a:path>
              <a:path fill="lighten" w="263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39" h="21600">
                <a:moveTo>
                  <a:pt x="6163" y="7493"/>
                </a:moveTo>
                <a:lnTo>
                  <a:pt x="9671" y="7493"/>
                </a:lnTo>
                <a:lnTo>
                  <a:pt x="9671" y="12828"/>
                </a:lnTo>
                <a:cubicBezTo>
                  <a:pt x="9671" y="13751"/>
                  <a:pt x="10471" y="14482"/>
                  <a:pt x="11507" y="14482"/>
                </a:cubicBezTo>
                <a:lnTo>
                  <a:pt x="13169" y="14482"/>
                </a:lnTo>
                <a:cubicBezTo>
                  <a:pt x="14205" y="14482"/>
                  <a:pt x="15006" y="13751"/>
                  <a:pt x="15006" y="12828"/>
                </a:cubicBezTo>
                <a:lnTo>
                  <a:pt x="15006" y="7493"/>
                </a:lnTo>
                <a:lnTo>
                  <a:pt x="13169" y="7493"/>
                </a:lnTo>
                <a:lnTo>
                  <a:pt x="16677" y="3985"/>
                </a:lnTo>
                <a:lnTo>
                  <a:pt x="20350" y="7493"/>
                </a:lnTo>
                <a:lnTo>
                  <a:pt x="18513" y="7493"/>
                </a:lnTo>
                <a:lnTo>
                  <a:pt x="18513" y="12828"/>
                </a:lnTo>
                <a:cubicBezTo>
                  <a:pt x="18513" y="15596"/>
                  <a:pt x="15937" y="18155"/>
                  <a:pt x="13169" y="18155"/>
                </a:cubicBezTo>
                <a:lnTo>
                  <a:pt x="11507" y="18155"/>
                </a:lnTo>
                <a:cubicBezTo>
                  <a:pt x="8739" y="18155"/>
                  <a:pt x="6163" y="15596"/>
                  <a:pt x="616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700360" y="5084640"/>
            <a:ext cx="345600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Колоб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72440" y="2059560"/>
            <a:ext cx="8793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зовите русскую народную сказку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которой было 3 покушения на убийств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 одно убийств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7236000" y="4581360"/>
            <a:ext cx="1008000" cy="9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9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7742160" y="163440"/>
            <a:ext cx="108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1 бал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>
            <a:hlinkClick r:id="rId1" action="ppaction://hlinksldjump"/>
          </p:cNvPr>
          <p:cNvSpPr/>
          <p:nvPr/>
        </p:nvSpPr>
        <p:spPr>
          <a:xfrm>
            <a:off x="8352000" y="6208560"/>
            <a:ext cx="792000" cy="6494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9440"/>
              <a:gd name="textAreaBottom" fmla="*/ 607680 h 649440"/>
            </a:gdLst>
            <a:ahLst/>
            <a:rect l="textAreaLeft" t="textAreaTop" r="textAreaRight" b="textAreaBottom"/>
            <a:pathLst>
              <a:path w="26339" h="21600">
                <a:moveTo>
                  <a:pt x="0" y="0"/>
                </a:moveTo>
                <a:lnTo>
                  <a:pt x="26339" y="0"/>
                </a:lnTo>
                <a:lnTo>
                  <a:pt x="26339" y="21600"/>
                </a:lnTo>
                <a:lnTo>
                  <a:pt x="0" y="21600"/>
                </a:lnTo>
                <a:close/>
              </a:path>
              <a:path fill="lightenLess" w="26339" h="21600">
                <a:moveTo>
                  <a:pt x="0" y="0"/>
                </a:moveTo>
                <a:lnTo>
                  <a:pt x="26339" y="0"/>
                </a:lnTo>
                <a:lnTo>
                  <a:pt x="24939" y="1400"/>
                </a:lnTo>
                <a:lnTo>
                  <a:pt x="1400" y="1400"/>
                </a:lnTo>
                <a:close/>
              </a:path>
              <a:path fill="darken" w="26339" h="21600">
                <a:moveTo>
                  <a:pt x="26339" y="0"/>
                </a:moveTo>
                <a:lnTo>
                  <a:pt x="26339" y="21600"/>
                </a:lnTo>
                <a:lnTo>
                  <a:pt x="24939" y="20200"/>
                </a:lnTo>
                <a:lnTo>
                  <a:pt x="24939" y="1400"/>
                </a:lnTo>
                <a:close/>
              </a:path>
              <a:path fill="darkenLess" w="26339" h="21600">
                <a:moveTo>
                  <a:pt x="263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39" y="20200"/>
                </a:lnTo>
                <a:close/>
              </a:path>
              <a:path fill="lighten" w="263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39" h="21600">
                <a:moveTo>
                  <a:pt x="6163" y="7493"/>
                </a:moveTo>
                <a:lnTo>
                  <a:pt x="9671" y="7493"/>
                </a:lnTo>
                <a:lnTo>
                  <a:pt x="9671" y="12828"/>
                </a:lnTo>
                <a:cubicBezTo>
                  <a:pt x="9671" y="13751"/>
                  <a:pt x="10471" y="14482"/>
                  <a:pt x="11507" y="14482"/>
                </a:cubicBezTo>
                <a:lnTo>
                  <a:pt x="13169" y="14482"/>
                </a:lnTo>
                <a:cubicBezTo>
                  <a:pt x="14205" y="14482"/>
                  <a:pt x="15006" y="13751"/>
                  <a:pt x="15006" y="12828"/>
                </a:cubicBezTo>
                <a:lnTo>
                  <a:pt x="15006" y="7493"/>
                </a:lnTo>
                <a:lnTo>
                  <a:pt x="13169" y="7493"/>
                </a:lnTo>
                <a:lnTo>
                  <a:pt x="16677" y="3985"/>
                </a:lnTo>
                <a:lnTo>
                  <a:pt x="20350" y="7493"/>
                </a:lnTo>
                <a:lnTo>
                  <a:pt x="18513" y="7493"/>
                </a:lnTo>
                <a:lnTo>
                  <a:pt x="18513" y="12828"/>
                </a:lnTo>
                <a:cubicBezTo>
                  <a:pt x="18513" y="15596"/>
                  <a:pt x="15937" y="18155"/>
                  <a:pt x="13169" y="18155"/>
                </a:cubicBezTo>
                <a:lnTo>
                  <a:pt x="11507" y="18155"/>
                </a:lnTo>
                <a:cubicBezTo>
                  <a:pt x="8739" y="18155"/>
                  <a:pt x="6163" y="15596"/>
                  <a:pt x="616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68360" y="249228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4360" y="1989000"/>
            <a:ext cx="820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Какой цвет кожи у мультипликационного героя Шрека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700360" y="5084640"/>
            <a:ext cx="345600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зелё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9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7742160" y="163440"/>
            <a:ext cx="11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2 бал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>
            <a:hlinkClick r:id="rId1" action="ppaction://hlinksldjump"/>
          </p:cNvPr>
          <p:cNvSpPr/>
          <p:nvPr/>
        </p:nvSpPr>
        <p:spPr>
          <a:xfrm>
            <a:off x="8352000" y="6208560"/>
            <a:ext cx="792000" cy="6494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9440"/>
              <a:gd name="textAreaBottom" fmla="*/ 607680 h 649440"/>
            </a:gdLst>
            <a:ahLst/>
            <a:rect l="textAreaLeft" t="textAreaTop" r="textAreaRight" b="textAreaBottom"/>
            <a:pathLst>
              <a:path w="26339" h="21600">
                <a:moveTo>
                  <a:pt x="0" y="0"/>
                </a:moveTo>
                <a:lnTo>
                  <a:pt x="26339" y="0"/>
                </a:lnTo>
                <a:lnTo>
                  <a:pt x="26339" y="21600"/>
                </a:lnTo>
                <a:lnTo>
                  <a:pt x="0" y="21600"/>
                </a:lnTo>
                <a:close/>
              </a:path>
              <a:path fill="lightenLess" w="26339" h="21600">
                <a:moveTo>
                  <a:pt x="0" y="0"/>
                </a:moveTo>
                <a:lnTo>
                  <a:pt x="26339" y="0"/>
                </a:lnTo>
                <a:lnTo>
                  <a:pt x="24939" y="1400"/>
                </a:lnTo>
                <a:lnTo>
                  <a:pt x="1400" y="1400"/>
                </a:lnTo>
                <a:close/>
              </a:path>
              <a:path fill="darken" w="26339" h="21600">
                <a:moveTo>
                  <a:pt x="26339" y="0"/>
                </a:moveTo>
                <a:lnTo>
                  <a:pt x="26339" y="21600"/>
                </a:lnTo>
                <a:lnTo>
                  <a:pt x="24939" y="20200"/>
                </a:lnTo>
                <a:lnTo>
                  <a:pt x="24939" y="1400"/>
                </a:lnTo>
                <a:close/>
              </a:path>
              <a:path fill="darkenLess" w="26339" h="21600">
                <a:moveTo>
                  <a:pt x="263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39" y="20200"/>
                </a:lnTo>
                <a:close/>
              </a:path>
              <a:path fill="lighten" w="263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39" h="21600">
                <a:moveTo>
                  <a:pt x="6163" y="7493"/>
                </a:moveTo>
                <a:lnTo>
                  <a:pt x="9671" y="7493"/>
                </a:lnTo>
                <a:lnTo>
                  <a:pt x="9671" y="12828"/>
                </a:lnTo>
                <a:cubicBezTo>
                  <a:pt x="9671" y="13751"/>
                  <a:pt x="10471" y="14482"/>
                  <a:pt x="11507" y="14482"/>
                </a:cubicBezTo>
                <a:lnTo>
                  <a:pt x="13169" y="14482"/>
                </a:lnTo>
                <a:cubicBezTo>
                  <a:pt x="14205" y="14482"/>
                  <a:pt x="15006" y="13751"/>
                  <a:pt x="15006" y="12828"/>
                </a:cubicBezTo>
                <a:lnTo>
                  <a:pt x="15006" y="7493"/>
                </a:lnTo>
                <a:lnTo>
                  <a:pt x="13169" y="7493"/>
                </a:lnTo>
                <a:lnTo>
                  <a:pt x="16677" y="3985"/>
                </a:lnTo>
                <a:lnTo>
                  <a:pt x="20350" y="7493"/>
                </a:lnTo>
                <a:lnTo>
                  <a:pt x="18513" y="7493"/>
                </a:lnTo>
                <a:lnTo>
                  <a:pt x="18513" y="12828"/>
                </a:lnTo>
                <a:cubicBezTo>
                  <a:pt x="18513" y="15596"/>
                  <a:pt x="15937" y="18155"/>
                  <a:pt x="13169" y="18155"/>
                </a:cubicBezTo>
                <a:lnTo>
                  <a:pt x="11507" y="18155"/>
                </a:lnTo>
                <a:cubicBezTo>
                  <a:pt x="8739" y="18155"/>
                  <a:pt x="6163" y="15596"/>
                  <a:pt x="616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68360" y="2492280"/>
            <a:ext cx="82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Назовите главного специалиста по поеданию бутерброд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00360" y="5084640"/>
            <a:ext cx="388764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Кот Матроск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9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7742160" y="163440"/>
            <a:ext cx="11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3 бал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1" action="ppaction://hlinksldjump"/>
          </p:cNvPr>
          <p:cNvSpPr/>
          <p:nvPr/>
        </p:nvSpPr>
        <p:spPr>
          <a:xfrm>
            <a:off x="8352000" y="6208560"/>
            <a:ext cx="792000" cy="6494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9440"/>
              <a:gd name="textAreaBottom" fmla="*/ 607680 h 649440"/>
            </a:gdLst>
            <a:ahLst/>
            <a:rect l="textAreaLeft" t="textAreaTop" r="textAreaRight" b="textAreaBottom"/>
            <a:pathLst>
              <a:path w="26339" h="21600">
                <a:moveTo>
                  <a:pt x="0" y="0"/>
                </a:moveTo>
                <a:lnTo>
                  <a:pt x="26339" y="0"/>
                </a:lnTo>
                <a:lnTo>
                  <a:pt x="26339" y="21600"/>
                </a:lnTo>
                <a:lnTo>
                  <a:pt x="0" y="21600"/>
                </a:lnTo>
                <a:close/>
              </a:path>
              <a:path fill="lightenLess" w="26339" h="21600">
                <a:moveTo>
                  <a:pt x="0" y="0"/>
                </a:moveTo>
                <a:lnTo>
                  <a:pt x="26339" y="0"/>
                </a:lnTo>
                <a:lnTo>
                  <a:pt x="24939" y="1400"/>
                </a:lnTo>
                <a:lnTo>
                  <a:pt x="1400" y="1400"/>
                </a:lnTo>
                <a:close/>
              </a:path>
              <a:path fill="darken" w="26339" h="21600">
                <a:moveTo>
                  <a:pt x="26339" y="0"/>
                </a:moveTo>
                <a:lnTo>
                  <a:pt x="26339" y="21600"/>
                </a:lnTo>
                <a:lnTo>
                  <a:pt x="24939" y="20200"/>
                </a:lnTo>
                <a:lnTo>
                  <a:pt x="24939" y="1400"/>
                </a:lnTo>
                <a:close/>
              </a:path>
              <a:path fill="darkenLess" w="26339" h="21600">
                <a:moveTo>
                  <a:pt x="263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39" y="20200"/>
                </a:lnTo>
                <a:close/>
              </a:path>
              <a:path fill="lighten" w="263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39" h="21600">
                <a:moveTo>
                  <a:pt x="6163" y="7493"/>
                </a:moveTo>
                <a:lnTo>
                  <a:pt x="9671" y="7493"/>
                </a:lnTo>
                <a:lnTo>
                  <a:pt x="9671" y="12828"/>
                </a:lnTo>
                <a:cubicBezTo>
                  <a:pt x="9671" y="13751"/>
                  <a:pt x="10471" y="14482"/>
                  <a:pt x="11507" y="14482"/>
                </a:cubicBezTo>
                <a:lnTo>
                  <a:pt x="13169" y="14482"/>
                </a:lnTo>
                <a:cubicBezTo>
                  <a:pt x="14205" y="14482"/>
                  <a:pt x="15006" y="13751"/>
                  <a:pt x="15006" y="12828"/>
                </a:cubicBezTo>
                <a:lnTo>
                  <a:pt x="15006" y="7493"/>
                </a:lnTo>
                <a:lnTo>
                  <a:pt x="13169" y="7493"/>
                </a:lnTo>
                <a:lnTo>
                  <a:pt x="16677" y="3985"/>
                </a:lnTo>
                <a:lnTo>
                  <a:pt x="20350" y="7493"/>
                </a:lnTo>
                <a:lnTo>
                  <a:pt x="18513" y="7493"/>
                </a:lnTo>
                <a:lnTo>
                  <a:pt x="18513" y="12828"/>
                </a:lnTo>
                <a:cubicBezTo>
                  <a:pt x="18513" y="15596"/>
                  <a:pt x="15937" y="18155"/>
                  <a:pt x="13169" y="18155"/>
                </a:cubicBezTo>
                <a:lnTo>
                  <a:pt x="11507" y="18155"/>
                </a:lnTo>
                <a:cubicBezTo>
                  <a:pt x="8739" y="18155"/>
                  <a:pt x="6163" y="15596"/>
                  <a:pt x="616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39640" y="1989000"/>
            <a:ext cx="82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Как звали крысу старухи Шапокляк из мультика "Чебурашка"?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00360" y="5084640"/>
            <a:ext cx="345600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Лари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9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4589640"/>
            <a:ext cx="2268360" cy="22683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0" y="836640"/>
            <a:ext cx="8964720" cy="4176720"/>
          </a:xfrm>
          <a:prstGeom prst="cloudCallout">
            <a:avLst>
              <a:gd name="adj1" fmla="val -22550"/>
              <a:gd name="adj2" fmla="val 68356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742160" y="163440"/>
            <a:ext cx="11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4 бал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>
            <a:hlinkClick r:id="rId2" action="ppaction://hlinksldjump"/>
          </p:cNvPr>
          <p:cNvSpPr/>
          <p:nvPr/>
        </p:nvSpPr>
        <p:spPr>
          <a:xfrm>
            <a:off x="8352000" y="6208560"/>
            <a:ext cx="792000" cy="6494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9440"/>
              <a:gd name="textAreaBottom" fmla="*/ 607680 h 649440"/>
            </a:gdLst>
            <a:ahLst/>
            <a:rect l="textAreaLeft" t="textAreaTop" r="textAreaRight" b="textAreaBottom"/>
            <a:pathLst>
              <a:path w="26339" h="21600">
                <a:moveTo>
                  <a:pt x="0" y="0"/>
                </a:moveTo>
                <a:lnTo>
                  <a:pt x="26339" y="0"/>
                </a:lnTo>
                <a:lnTo>
                  <a:pt x="26339" y="21600"/>
                </a:lnTo>
                <a:lnTo>
                  <a:pt x="0" y="21600"/>
                </a:lnTo>
                <a:close/>
              </a:path>
              <a:path fill="lightenLess" w="26339" h="21600">
                <a:moveTo>
                  <a:pt x="0" y="0"/>
                </a:moveTo>
                <a:lnTo>
                  <a:pt x="26339" y="0"/>
                </a:lnTo>
                <a:lnTo>
                  <a:pt x="24939" y="1400"/>
                </a:lnTo>
                <a:lnTo>
                  <a:pt x="1400" y="1400"/>
                </a:lnTo>
                <a:close/>
              </a:path>
              <a:path fill="darken" w="26339" h="21600">
                <a:moveTo>
                  <a:pt x="26339" y="0"/>
                </a:moveTo>
                <a:lnTo>
                  <a:pt x="26339" y="21600"/>
                </a:lnTo>
                <a:lnTo>
                  <a:pt x="24939" y="20200"/>
                </a:lnTo>
                <a:lnTo>
                  <a:pt x="24939" y="1400"/>
                </a:lnTo>
                <a:close/>
              </a:path>
              <a:path fill="darkenLess" w="26339" h="21600">
                <a:moveTo>
                  <a:pt x="263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39" y="20200"/>
                </a:lnTo>
                <a:close/>
              </a:path>
              <a:path fill="lighten" w="263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39" h="21600">
                <a:moveTo>
                  <a:pt x="6163" y="7493"/>
                </a:moveTo>
                <a:lnTo>
                  <a:pt x="9671" y="7493"/>
                </a:lnTo>
                <a:lnTo>
                  <a:pt x="9671" y="12828"/>
                </a:lnTo>
                <a:cubicBezTo>
                  <a:pt x="9671" y="13751"/>
                  <a:pt x="10471" y="14482"/>
                  <a:pt x="11507" y="14482"/>
                </a:cubicBezTo>
                <a:lnTo>
                  <a:pt x="13169" y="14482"/>
                </a:lnTo>
                <a:cubicBezTo>
                  <a:pt x="14205" y="14482"/>
                  <a:pt x="15006" y="13751"/>
                  <a:pt x="15006" y="12828"/>
                </a:cubicBezTo>
                <a:lnTo>
                  <a:pt x="15006" y="7493"/>
                </a:lnTo>
                <a:lnTo>
                  <a:pt x="13169" y="7493"/>
                </a:lnTo>
                <a:lnTo>
                  <a:pt x="16677" y="3985"/>
                </a:lnTo>
                <a:lnTo>
                  <a:pt x="20350" y="7493"/>
                </a:lnTo>
                <a:lnTo>
                  <a:pt x="18513" y="7493"/>
                </a:lnTo>
                <a:lnTo>
                  <a:pt x="18513" y="12828"/>
                </a:lnTo>
                <a:cubicBezTo>
                  <a:pt x="18513" y="15596"/>
                  <a:pt x="15937" y="18155"/>
                  <a:pt x="13169" y="18155"/>
                </a:cubicBezTo>
                <a:lnTo>
                  <a:pt x="11507" y="18155"/>
                </a:lnTo>
                <a:cubicBezTo>
                  <a:pt x="8739" y="18155"/>
                  <a:pt x="6163" y="15596"/>
                  <a:pt x="616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68360" y="249228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Учреждение, куда принимают неграмотных.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5300640"/>
            <a:ext cx="3456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 Black"/>
              </a:rPr>
              <a:t>шко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58520" y="404640"/>
            <a:ext cx="55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От улыбки станет всем светлей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9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9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7237440" y="260280"/>
            <a:ext cx="155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5 бал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>
            <a:hlinkClick r:id="rId1" action="ppaction://hlinksldjump"/>
          </p:cNvPr>
          <p:cNvSpPr/>
          <p:nvPr/>
        </p:nvSpPr>
        <p:spPr>
          <a:xfrm>
            <a:off x="8352000" y="6208560"/>
            <a:ext cx="792000" cy="6494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9440"/>
              <a:gd name="textAreaBottom" fmla="*/ 607680 h 649440"/>
            </a:gdLst>
            <a:ahLst/>
            <a:rect l="textAreaLeft" t="textAreaTop" r="textAreaRight" b="textAreaBottom"/>
            <a:pathLst>
              <a:path w="26339" h="21600">
                <a:moveTo>
                  <a:pt x="0" y="0"/>
                </a:moveTo>
                <a:lnTo>
                  <a:pt x="26339" y="0"/>
                </a:lnTo>
                <a:lnTo>
                  <a:pt x="26339" y="21600"/>
                </a:lnTo>
                <a:lnTo>
                  <a:pt x="0" y="21600"/>
                </a:lnTo>
                <a:close/>
              </a:path>
              <a:path fill="lightenLess" w="26339" h="21600">
                <a:moveTo>
                  <a:pt x="0" y="0"/>
                </a:moveTo>
                <a:lnTo>
                  <a:pt x="26339" y="0"/>
                </a:lnTo>
                <a:lnTo>
                  <a:pt x="24939" y="1400"/>
                </a:lnTo>
                <a:lnTo>
                  <a:pt x="1400" y="1400"/>
                </a:lnTo>
                <a:close/>
              </a:path>
              <a:path fill="darken" w="26339" h="21600">
                <a:moveTo>
                  <a:pt x="26339" y="0"/>
                </a:moveTo>
                <a:lnTo>
                  <a:pt x="26339" y="21600"/>
                </a:lnTo>
                <a:lnTo>
                  <a:pt x="24939" y="20200"/>
                </a:lnTo>
                <a:lnTo>
                  <a:pt x="24939" y="1400"/>
                </a:lnTo>
                <a:close/>
              </a:path>
              <a:path fill="darkenLess" w="26339" h="21600">
                <a:moveTo>
                  <a:pt x="263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39" y="20200"/>
                </a:lnTo>
                <a:close/>
              </a:path>
              <a:path fill="lighten" w="263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39" h="21600">
                <a:moveTo>
                  <a:pt x="6163" y="7493"/>
                </a:moveTo>
                <a:lnTo>
                  <a:pt x="9671" y="7493"/>
                </a:lnTo>
                <a:lnTo>
                  <a:pt x="9671" y="12828"/>
                </a:lnTo>
                <a:cubicBezTo>
                  <a:pt x="9671" y="13751"/>
                  <a:pt x="10471" y="14482"/>
                  <a:pt x="11507" y="14482"/>
                </a:cubicBezTo>
                <a:lnTo>
                  <a:pt x="13169" y="14482"/>
                </a:lnTo>
                <a:cubicBezTo>
                  <a:pt x="14205" y="14482"/>
                  <a:pt x="15006" y="13751"/>
                  <a:pt x="15006" y="12828"/>
                </a:cubicBezTo>
                <a:lnTo>
                  <a:pt x="15006" y="7493"/>
                </a:lnTo>
                <a:lnTo>
                  <a:pt x="13169" y="7493"/>
                </a:lnTo>
                <a:lnTo>
                  <a:pt x="16677" y="3985"/>
                </a:lnTo>
                <a:lnTo>
                  <a:pt x="20350" y="7493"/>
                </a:lnTo>
                <a:lnTo>
                  <a:pt x="18513" y="7493"/>
                </a:lnTo>
                <a:lnTo>
                  <a:pt x="18513" y="12828"/>
                </a:lnTo>
                <a:cubicBezTo>
                  <a:pt x="18513" y="15596"/>
                  <a:pt x="15937" y="18155"/>
                  <a:pt x="13169" y="18155"/>
                </a:cubicBezTo>
                <a:lnTo>
                  <a:pt x="11507" y="18155"/>
                </a:lnTo>
                <a:cubicBezTo>
                  <a:pt x="8739" y="18155"/>
                  <a:pt x="6163" y="15596"/>
                  <a:pt x="616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11280" y="1916280"/>
            <a:ext cx="8208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Главными героями какого полнометражного мультфильма являются рыбы-клоуны - папа и сын?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547640" y="5084640"/>
            <a:ext cx="554544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«В поисках Немо»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9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7021800" y="333360"/>
            <a:ext cx="155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6 бал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>
            <a:hlinkClick r:id="rId1" action="ppaction://hlinksldjump"/>
          </p:cNvPr>
          <p:cNvSpPr/>
          <p:nvPr/>
        </p:nvSpPr>
        <p:spPr>
          <a:xfrm>
            <a:off x="8352000" y="6208560"/>
            <a:ext cx="792000" cy="6494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9440"/>
              <a:gd name="textAreaBottom" fmla="*/ 607680 h 649440"/>
            </a:gdLst>
            <a:ahLst/>
            <a:rect l="textAreaLeft" t="textAreaTop" r="textAreaRight" b="textAreaBottom"/>
            <a:pathLst>
              <a:path w="26339" h="21600">
                <a:moveTo>
                  <a:pt x="0" y="0"/>
                </a:moveTo>
                <a:lnTo>
                  <a:pt x="26339" y="0"/>
                </a:lnTo>
                <a:lnTo>
                  <a:pt x="26339" y="21600"/>
                </a:lnTo>
                <a:lnTo>
                  <a:pt x="0" y="21600"/>
                </a:lnTo>
                <a:close/>
              </a:path>
              <a:path fill="lightenLess" w="26339" h="21600">
                <a:moveTo>
                  <a:pt x="0" y="0"/>
                </a:moveTo>
                <a:lnTo>
                  <a:pt x="26339" y="0"/>
                </a:lnTo>
                <a:lnTo>
                  <a:pt x="24939" y="1400"/>
                </a:lnTo>
                <a:lnTo>
                  <a:pt x="1400" y="1400"/>
                </a:lnTo>
                <a:close/>
              </a:path>
              <a:path fill="darken" w="26339" h="21600">
                <a:moveTo>
                  <a:pt x="26339" y="0"/>
                </a:moveTo>
                <a:lnTo>
                  <a:pt x="26339" y="21600"/>
                </a:lnTo>
                <a:lnTo>
                  <a:pt x="24939" y="20200"/>
                </a:lnTo>
                <a:lnTo>
                  <a:pt x="24939" y="1400"/>
                </a:lnTo>
                <a:close/>
              </a:path>
              <a:path fill="darkenLess" w="26339" h="21600">
                <a:moveTo>
                  <a:pt x="263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39" y="20200"/>
                </a:lnTo>
                <a:close/>
              </a:path>
              <a:path fill="lighten" w="263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39" h="21600">
                <a:moveTo>
                  <a:pt x="6163" y="7493"/>
                </a:moveTo>
                <a:lnTo>
                  <a:pt x="9671" y="7493"/>
                </a:lnTo>
                <a:lnTo>
                  <a:pt x="9671" y="12828"/>
                </a:lnTo>
                <a:cubicBezTo>
                  <a:pt x="9671" y="13751"/>
                  <a:pt x="10471" y="14482"/>
                  <a:pt x="11507" y="14482"/>
                </a:cubicBezTo>
                <a:lnTo>
                  <a:pt x="13169" y="14482"/>
                </a:lnTo>
                <a:cubicBezTo>
                  <a:pt x="14205" y="14482"/>
                  <a:pt x="15006" y="13751"/>
                  <a:pt x="15006" y="12828"/>
                </a:cubicBezTo>
                <a:lnTo>
                  <a:pt x="15006" y="7493"/>
                </a:lnTo>
                <a:lnTo>
                  <a:pt x="13169" y="7493"/>
                </a:lnTo>
                <a:lnTo>
                  <a:pt x="16677" y="3985"/>
                </a:lnTo>
                <a:lnTo>
                  <a:pt x="20350" y="7493"/>
                </a:lnTo>
                <a:lnTo>
                  <a:pt x="18513" y="7493"/>
                </a:lnTo>
                <a:lnTo>
                  <a:pt x="18513" y="12828"/>
                </a:lnTo>
                <a:cubicBezTo>
                  <a:pt x="18513" y="15596"/>
                  <a:pt x="15937" y="18155"/>
                  <a:pt x="13169" y="18155"/>
                </a:cubicBezTo>
                <a:lnTo>
                  <a:pt x="11507" y="18155"/>
                </a:lnTo>
                <a:cubicBezTo>
                  <a:pt x="8739" y="18155"/>
                  <a:pt x="6163" y="15596"/>
                  <a:pt x="616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68360" y="2492280"/>
            <a:ext cx="8209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Какое слово Снежная Королева заставляла собирать Кая?</a:t>
            </a:r>
            <a:r>
              <a:rPr b="0" i="1" lang="ru-RU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132000" y="4869000"/>
            <a:ext cx="3456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 Black"/>
              </a:rPr>
              <a:t>вечнос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9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836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ик-чирик по-вороньи.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>
            <a:hlinkClick r:id="rId1" action="ppaction://hlinksldjump"/>
          </p:cNvPr>
          <p:cNvSpPr/>
          <p:nvPr/>
        </p:nvSpPr>
        <p:spPr>
          <a:xfrm>
            <a:off x="8352000" y="6208560"/>
            <a:ext cx="792000" cy="6494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9440"/>
              <a:gd name="textAreaBottom" fmla="*/ 607680 h 649440"/>
            </a:gdLst>
            <a:ahLst/>
            <a:rect l="textAreaLeft" t="textAreaTop" r="textAreaRight" b="textAreaBottom"/>
            <a:pathLst>
              <a:path w="26339" h="21600">
                <a:moveTo>
                  <a:pt x="0" y="0"/>
                </a:moveTo>
                <a:lnTo>
                  <a:pt x="26339" y="0"/>
                </a:lnTo>
                <a:lnTo>
                  <a:pt x="26339" y="21600"/>
                </a:lnTo>
                <a:lnTo>
                  <a:pt x="0" y="21600"/>
                </a:lnTo>
                <a:close/>
              </a:path>
              <a:path fill="lightenLess" w="26339" h="21600">
                <a:moveTo>
                  <a:pt x="0" y="0"/>
                </a:moveTo>
                <a:lnTo>
                  <a:pt x="26339" y="0"/>
                </a:lnTo>
                <a:lnTo>
                  <a:pt x="24939" y="1400"/>
                </a:lnTo>
                <a:lnTo>
                  <a:pt x="1400" y="1400"/>
                </a:lnTo>
                <a:close/>
              </a:path>
              <a:path fill="darken" w="26339" h="21600">
                <a:moveTo>
                  <a:pt x="26339" y="0"/>
                </a:moveTo>
                <a:lnTo>
                  <a:pt x="26339" y="21600"/>
                </a:lnTo>
                <a:lnTo>
                  <a:pt x="24939" y="20200"/>
                </a:lnTo>
                <a:lnTo>
                  <a:pt x="24939" y="1400"/>
                </a:lnTo>
                <a:close/>
              </a:path>
              <a:path fill="darkenLess" w="26339" h="21600">
                <a:moveTo>
                  <a:pt x="263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39" y="20200"/>
                </a:lnTo>
                <a:close/>
              </a:path>
              <a:path fill="lighten" w="263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39" h="21600">
                <a:moveTo>
                  <a:pt x="6163" y="7493"/>
                </a:moveTo>
                <a:lnTo>
                  <a:pt x="9671" y="7493"/>
                </a:lnTo>
                <a:lnTo>
                  <a:pt x="9671" y="12828"/>
                </a:lnTo>
                <a:cubicBezTo>
                  <a:pt x="9671" y="13751"/>
                  <a:pt x="10471" y="14482"/>
                  <a:pt x="11507" y="14482"/>
                </a:cubicBezTo>
                <a:lnTo>
                  <a:pt x="13169" y="14482"/>
                </a:lnTo>
                <a:cubicBezTo>
                  <a:pt x="14205" y="14482"/>
                  <a:pt x="15006" y="13751"/>
                  <a:pt x="15006" y="12828"/>
                </a:cubicBezTo>
                <a:lnTo>
                  <a:pt x="15006" y="7493"/>
                </a:lnTo>
                <a:lnTo>
                  <a:pt x="13169" y="7493"/>
                </a:lnTo>
                <a:lnTo>
                  <a:pt x="16677" y="3985"/>
                </a:lnTo>
                <a:lnTo>
                  <a:pt x="20350" y="7493"/>
                </a:lnTo>
                <a:lnTo>
                  <a:pt x="18513" y="7493"/>
                </a:lnTo>
                <a:lnTo>
                  <a:pt x="18513" y="12828"/>
                </a:lnTo>
                <a:cubicBezTo>
                  <a:pt x="18513" y="15596"/>
                  <a:pt x="15937" y="18155"/>
                  <a:pt x="13169" y="18155"/>
                </a:cubicBezTo>
                <a:lnTo>
                  <a:pt x="11507" y="18155"/>
                </a:lnTo>
                <a:cubicBezTo>
                  <a:pt x="8739" y="18155"/>
                  <a:pt x="6163" y="15596"/>
                  <a:pt x="616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700360" y="5084640"/>
            <a:ext cx="345600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Кар-ка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668720" y="33336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1 бал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3995640" y="260280"/>
            <a:ext cx="183528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9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7742880" y="11592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2 бал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>
            <a:hlinkClick r:id="rId1" action="ppaction://hlinksldjump"/>
          </p:cNvPr>
          <p:cNvSpPr/>
          <p:nvPr/>
        </p:nvSpPr>
        <p:spPr>
          <a:xfrm>
            <a:off x="8352000" y="6208560"/>
            <a:ext cx="792000" cy="6494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9440"/>
              <a:gd name="textAreaBottom" fmla="*/ 607680 h 649440"/>
            </a:gdLst>
            <a:ahLst/>
            <a:rect l="textAreaLeft" t="textAreaTop" r="textAreaRight" b="textAreaBottom"/>
            <a:pathLst>
              <a:path w="26339" h="21600">
                <a:moveTo>
                  <a:pt x="0" y="0"/>
                </a:moveTo>
                <a:lnTo>
                  <a:pt x="26339" y="0"/>
                </a:lnTo>
                <a:lnTo>
                  <a:pt x="26339" y="21600"/>
                </a:lnTo>
                <a:lnTo>
                  <a:pt x="0" y="21600"/>
                </a:lnTo>
                <a:close/>
              </a:path>
              <a:path fill="lightenLess" w="26339" h="21600">
                <a:moveTo>
                  <a:pt x="0" y="0"/>
                </a:moveTo>
                <a:lnTo>
                  <a:pt x="26339" y="0"/>
                </a:lnTo>
                <a:lnTo>
                  <a:pt x="24939" y="1400"/>
                </a:lnTo>
                <a:lnTo>
                  <a:pt x="1400" y="1400"/>
                </a:lnTo>
                <a:close/>
              </a:path>
              <a:path fill="darken" w="26339" h="21600">
                <a:moveTo>
                  <a:pt x="26339" y="0"/>
                </a:moveTo>
                <a:lnTo>
                  <a:pt x="26339" y="21600"/>
                </a:lnTo>
                <a:lnTo>
                  <a:pt x="24939" y="20200"/>
                </a:lnTo>
                <a:lnTo>
                  <a:pt x="24939" y="1400"/>
                </a:lnTo>
                <a:close/>
              </a:path>
              <a:path fill="darkenLess" w="26339" h="21600">
                <a:moveTo>
                  <a:pt x="263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39" y="20200"/>
                </a:lnTo>
                <a:close/>
              </a:path>
              <a:path fill="lighten" w="263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39" h="21600">
                <a:moveTo>
                  <a:pt x="6163" y="7493"/>
                </a:moveTo>
                <a:lnTo>
                  <a:pt x="9671" y="7493"/>
                </a:lnTo>
                <a:lnTo>
                  <a:pt x="9671" y="12828"/>
                </a:lnTo>
                <a:cubicBezTo>
                  <a:pt x="9671" y="13751"/>
                  <a:pt x="10471" y="14482"/>
                  <a:pt x="11507" y="14482"/>
                </a:cubicBezTo>
                <a:lnTo>
                  <a:pt x="13169" y="14482"/>
                </a:lnTo>
                <a:cubicBezTo>
                  <a:pt x="14205" y="14482"/>
                  <a:pt x="15006" y="13751"/>
                  <a:pt x="15006" y="12828"/>
                </a:cubicBezTo>
                <a:lnTo>
                  <a:pt x="15006" y="7493"/>
                </a:lnTo>
                <a:lnTo>
                  <a:pt x="13169" y="7493"/>
                </a:lnTo>
                <a:lnTo>
                  <a:pt x="16677" y="3985"/>
                </a:lnTo>
                <a:lnTo>
                  <a:pt x="20350" y="7493"/>
                </a:lnTo>
                <a:lnTo>
                  <a:pt x="18513" y="7493"/>
                </a:lnTo>
                <a:lnTo>
                  <a:pt x="18513" y="12828"/>
                </a:lnTo>
                <a:cubicBezTo>
                  <a:pt x="18513" y="15596"/>
                  <a:pt x="15937" y="18155"/>
                  <a:pt x="13169" y="18155"/>
                </a:cubicBezTo>
                <a:lnTo>
                  <a:pt x="11507" y="18155"/>
                </a:lnTo>
                <a:cubicBezTo>
                  <a:pt x="8739" y="18155"/>
                  <a:pt x="6163" y="15596"/>
                  <a:pt x="616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68360" y="2492280"/>
            <a:ext cx="820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Назовите самое маленькое рогатое животное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00360" y="5084640"/>
            <a:ext cx="345600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Улитка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7093080" y="4221000"/>
            <a:ext cx="1725480" cy="14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9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9528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Единственная птица, которая умеет плавать, но не может летать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>
            <a:hlinkClick r:id="rId1" action="ppaction://hlinksldjump"/>
          </p:cNvPr>
          <p:cNvSpPr/>
          <p:nvPr/>
        </p:nvSpPr>
        <p:spPr>
          <a:xfrm>
            <a:off x="8352000" y="6208560"/>
            <a:ext cx="792000" cy="6494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9440"/>
              <a:gd name="textAreaBottom" fmla="*/ 607680 h 649440"/>
            </a:gdLst>
            <a:ahLst/>
            <a:rect l="textAreaLeft" t="textAreaTop" r="textAreaRight" b="textAreaBottom"/>
            <a:pathLst>
              <a:path w="26339" h="21600">
                <a:moveTo>
                  <a:pt x="0" y="0"/>
                </a:moveTo>
                <a:lnTo>
                  <a:pt x="26339" y="0"/>
                </a:lnTo>
                <a:lnTo>
                  <a:pt x="26339" y="21600"/>
                </a:lnTo>
                <a:lnTo>
                  <a:pt x="0" y="21600"/>
                </a:lnTo>
                <a:close/>
              </a:path>
              <a:path fill="lightenLess" w="26339" h="21600">
                <a:moveTo>
                  <a:pt x="0" y="0"/>
                </a:moveTo>
                <a:lnTo>
                  <a:pt x="26339" y="0"/>
                </a:lnTo>
                <a:lnTo>
                  <a:pt x="24939" y="1400"/>
                </a:lnTo>
                <a:lnTo>
                  <a:pt x="1400" y="1400"/>
                </a:lnTo>
                <a:close/>
              </a:path>
              <a:path fill="darken" w="26339" h="21600">
                <a:moveTo>
                  <a:pt x="26339" y="0"/>
                </a:moveTo>
                <a:lnTo>
                  <a:pt x="26339" y="21600"/>
                </a:lnTo>
                <a:lnTo>
                  <a:pt x="24939" y="20200"/>
                </a:lnTo>
                <a:lnTo>
                  <a:pt x="24939" y="1400"/>
                </a:lnTo>
                <a:close/>
              </a:path>
              <a:path fill="darkenLess" w="26339" h="21600">
                <a:moveTo>
                  <a:pt x="263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39" y="20200"/>
                </a:lnTo>
                <a:close/>
              </a:path>
              <a:path fill="lighten" w="263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39" h="21600">
                <a:moveTo>
                  <a:pt x="6163" y="7493"/>
                </a:moveTo>
                <a:lnTo>
                  <a:pt x="9671" y="7493"/>
                </a:lnTo>
                <a:lnTo>
                  <a:pt x="9671" y="12828"/>
                </a:lnTo>
                <a:cubicBezTo>
                  <a:pt x="9671" y="13751"/>
                  <a:pt x="10471" y="14482"/>
                  <a:pt x="11507" y="14482"/>
                </a:cubicBezTo>
                <a:lnTo>
                  <a:pt x="13169" y="14482"/>
                </a:lnTo>
                <a:cubicBezTo>
                  <a:pt x="14205" y="14482"/>
                  <a:pt x="15006" y="13751"/>
                  <a:pt x="15006" y="12828"/>
                </a:cubicBezTo>
                <a:lnTo>
                  <a:pt x="15006" y="7493"/>
                </a:lnTo>
                <a:lnTo>
                  <a:pt x="13169" y="7493"/>
                </a:lnTo>
                <a:lnTo>
                  <a:pt x="16677" y="3985"/>
                </a:lnTo>
                <a:lnTo>
                  <a:pt x="20350" y="7493"/>
                </a:lnTo>
                <a:lnTo>
                  <a:pt x="18513" y="7493"/>
                </a:lnTo>
                <a:lnTo>
                  <a:pt x="18513" y="12828"/>
                </a:lnTo>
                <a:cubicBezTo>
                  <a:pt x="18513" y="15596"/>
                  <a:pt x="15937" y="18155"/>
                  <a:pt x="13169" y="18155"/>
                </a:cubicBezTo>
                <a:lnTo>
                  <a:pt x="11507" y="18155"/>
                </a:lnTo>
                <a:cubicBezTo>
                  <a:pt x="8739" y="18155"/>
                  <a:pt x="6163" y="15596"/>
                  <a:pt x="616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5084640"/>
            <a:ext cx="345600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Пингвин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597800" y="235080"/>
            <a:ext cx="11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3 бал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395280" y="4941720"/>
            <a:ext cx="1762200" cy="14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9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амый приятный для артистов шум во время спектакля - это... Что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rId1" action="ppaction://hlinksldjump"/>
          </p:cNvPr>
          <p:cNvSpPr/>
          <p:nvPr/>
        </p:nvSpPr>
        <p:spPr>
          <a:xfrm>
            <a:off x="8352000" y="6208560"/>
            <a:ext cx="792000" cy="6494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9440"/>
              <a:gd name="textAreaBottom" fmla="*/ 607680 h 649440"/>
            </a:gdLst>
            <a:ahLst/>
            <a:rect l="textAreaLeft" t="textAreaTop" r="textAreaRight" b="textAreaBottom"/>
            <a:pathLst>
              <a:path w="26339" h="21600">
                <a:moveTo>
                  <a:pt x="0" y="0"/>
                </a:moveTo>
                <a:lnTo>
                  <a:pt x="26339" y="0"/>
                </a:lnTo>
                <a:lnTo>
                  <a:pt x="26339" y="21600"/>
                </a:lnTo>
                <a:lnTo>
                  <a:pt x="0" y="21600"/>
                </a:lnTo>
                <a:close/>
              </a:path>
              <a:path fill="lightenLess" w="26339" h="21600">
                <a:moveTo>
                  <a:pt x="0" y="0"/>
                </a:moveTo>
                <a:lnTo>
                  <a:pt x="26339" y="0"/>
                </a:lnTo>
                <a:lnTo>
                  <a:pt x="24939" y="1400"/>
                </a:lnTo>
                <a:lnTo>
                  <a:pt x="1400" y="1400"/>
                </a:lnTo>
                <a:close/>
              </a:path>
              <a:path fill="darken" w="26339" h="21600">
                <a:moveTo>
                  <a:pt x="26339" y="0"/>
                </a:moveTo>
                <a:lnTo>
                  <a:pt x="26339" y="21600"/>
                </a:lnTo>
                <a:lnTo>
                  <a:pt x="24939" y="20200"/>
                </a:lnTo>
                <a:lnTo>
                  <a:pt x="24939" y="1400"/>
                </a:lnTo>
                <a:close/>
              </a:path>
              <a:path fill="darkenLess" w="26339" h="21600">
                <a:moveTo>
                  <a:pt x="263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39" y="20200"/>
                </a:lnTo>
                <a:close/>
              </a:path>
              <a:path fill="lighten" w="263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39" h="21600">
                <a:moveTo>
                  <a:pt x="6163" y="7493"/>
                </a:moveTo>
                <a:lnTo>
                  <a:pt x="9671" y="7493"/>
                </a:lnTo>
                <a:lnTo>
                  <a:pt x="9671" y="12828"/>
                </a:lnTo>
                <a:cubicBezTo>
                  <a:pt x="9671" y="13751"/>
                  <a:pt x="10471" y="14482"/>
                  <a:pt x="11507" y="14482"/>
                </a:cubicBezTo>
                <a:lnTo>
                  <a:pt x="13169" y="14482"/>
                </a:lnTo>
                <a:cubicBezTo>
                  <a:pt x="14205" y="14482"/>
                  <a:pt x="15006" y="13751"/>
                  <a:pt x="15006" y="12828"/>
                </a:cubicBezTo>
                <a:lnTo>
                  <a:pt x="15006" y="7493"/>
                </a:lnTo>
                <a:lnTo>
                  <a:pt x="13169" y="7493"/>
                </a:lnTo>
                <a:lnTo>
                  <a:pt x="16677" y="3985"/>
                </a:lnTo>
                <a:lnTo>
                  <a:pt x="20350" y="7493"/>
                </a:lnTo>
                <a:lnTo>
                  <a:pt x="18513" y="7493"/>
                </a:lnTo>
                <a:lnTo>
                  <a:pt x="18513" y="12828"/>
                </a:lnTo>
                <a:cubicBezTo>
                  <a:pt x="18513" y="15596"/>
                  <a:pt x="15937" y="18155"/>
                  <a:pt x="13169" y="18155"/>
                </a:cubicBezTo>
                <a:lnTo>
                  <a:pt x="11507" y="18155"/>
                </a:lnTo>
                <a:cubicBezTo>
                  <a:pt x="8739" y="18155"/>
                  <a:pt x="6163" y="15596"/>
                  <a:pt x="616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700360" y="5084640"/>
            <a:ext cx="345600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аплодисмен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813080" y="18900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1 бал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9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Какое самое большое животное живущее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на суше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(высота до 3, 5 метров,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вес до 7 т.) ?    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>
            <a:hlinkClick r:id="rId1" action="ppaction://hlinksldjump"/>
          </p:cNvPr>
          <p:cNvSpPr/>
          <p:nvPr/>
        </p:nvSpPr>
        <p:spPr>
          <a:xfrm>
            <a:off x="8352000" y="6208560"/>
            <a:ext cx="792000" cy="6494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9440"/>
              <a:gd name="textAreaBottom" fmla="*/ 607680 h 649440"/>
            </a:gdLst>
            <a:ahLst/>
            <a:rect l="textAreaLeft" t="textAreaTop" r="textAreaRight" b="textAreaBottom"/>
            <a:pathLst>
              <a:path w="26339" h="21600">
                <a:moveTo>
                  <a:pt x="0" y="0"/>
                </a:moveTo>
                <a:lnTo>
                  <a:pt x="26339" y="0"/>
                </a:lnTo>
                <a:lnTo>
                  <a:pt x="26339" y="21600"/>
                </a:lnTo>
                <a:lnTo>
                  <a:pt x="0" y="21600"/>
                </a:lnTo>
                <a:close/>
              </a:path>
              <a:path fill="lightenLess" w="26339" h="21600">
                <a:moveTo>
                  <a:pt x="0" y="0"/>
                </a:moveTo>
                <a:lnTo>
                  <a:pt x="26339" y="0"/>
                </a:lnTo>
                <a:lnTo>
                  <a:pt x="24939" y="1400"/>
                </a:lnTo>
                <a:lnTo>
                  <a:pt x="1400" y="1400"/>
                </a:lnTo>
                <a:close/>
              </a:path>
              <a:path fill="darken" w="26339" h="21600">
                <a:moveTo>
                  <a:pt x="26339" y="0"/>
                </a:moveTo>
                <a:lnTo>
                  <a:pt x="26339" y="21600"/>
                </a:lnTo>
                <a:lnTo>
                  <a:pt x="24939" y="20200"/>
                </a:lnTo>
                <a:lnTo>
                  <a:pt x="24939" y="1400"/>
                </a:lnTo>
                <a:close/>
              </a:path>
              <a:path fill="darkenLess" w="26339" h="21600">
                <a:moveTo>
                  <a:pt x="263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39" y="20200"/>
                </a:lnTo>
                <a:close/>
              </a:path>
              <a:path fill="lighten" w="263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39" h="21600">
                <a:moveTo>
                  <a:pt x="6163" y="7493"/>
                </a:moveTo>
                <a:lnTo>
                  <a:pt x="9671" y="7493"/>
                </a:lnTo>
                <a:lnTo>
                  <a:pt x="9671" y="12828"/>
                </a:lnTo>
                <a:cubicBezTo>
                  <a:pt x="9671" y="13751"/>
                  <a:pt x="10471" y="14482"/>
                  <a:pt x="11507" y="14482"/>
                </a:cubicBezTo>
                <a:lnTo>
                  <a:pt x="13169" y="14482"/>
                </a:lnTo>
                <a:cubicBezTo>
                  <a:pt x="14205" y="14482"/>
                  <a:pt x="15006" y="13751"/>
                  <a:pt x="15006" y="12828"/>
                </a:cubicBezTo>
                <a:lnTo>
                  <a:pt x="15006" y="7493"/>
                </a:lnTo>
                <a:lnTo>
                  <a:pt x="13169" y="7493"/>
                </a:lnTo>
                <a:lnTo>
                  <a:pt x="16677" y="3985"/>
                </a:lnTo>
                <a:lnTo>
                  <a:pt x="20350" y="7493"/>
                </a:lnTo>
                <a:lnTo>
                  <a:pt x="18513" y="7493"/>
                </a:lnTo>
                <a:lnTo>
                  <a:pt x="18513" y="12828"/>
                </a:lnTo>
                <a:cubicBezTo>
                  <a:pt x="18513" y="15596"/>
                  <a:pt x="15937" y="18155"/>
                  <a:pt x="13169" y="18155"/>
                </a:cubicBezTo>
                <a:lnTo>
                  <a:pt x="11507" y="18155"/>
                </a:lnTo>
                <a:cubicBezTo>
                  <a:pt x="8739" y="18155"/>
                  <a:pt x="6163" y="15596"/>
                  <a:pt x="616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700360" y="5084640"/>
            <a:ext cx="345600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Сло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597800" y="26028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4 бал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6877080" y="4149720"/>
            <a:ext cx="1977840" cy="16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9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7453080" y="40644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5 бал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>
            <a:hlinkClick r:id="rId1" action="ppaction://hlinksldjump"/>
          </p:cNvPr>
          <p:cNvSpPr/>
          <p:nvPr/>
        </p:nvSpPr>
        <p:spPr>
          <a:xfrm>
            <a:off x="8352000" y="6208560"/>
            <a:ext cx="792000" cy="6494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9440"/>
              <a:gd name="textAreaBottom" fmla="*/ 607680 h 649440"/>
            </a:gdLst>
            <a:ahLst/>
            <a:rect l="textAreaLeft" t="textAreaTop" r="textAreaRight" b="textAreaBottom"/>
            <a:pathLst>
              <a:path w="26339" h="21600">
                <a:moveTo>
                  <a:pt x="0" y="0"/>
                </a:moveTo>
                <a:lnTo>
                  <a:pt x="26339" y="0"/>
                </a:lnTo>
                <a:lnTo>
                  <a:pt x="26339" y="21600"/>
                </a:lnTo>
                <a:lnTo>
                  <a:pt x="0" y="21600"/>
                </a:lnTo>
                <a:close/>
              </a:path>
              <a:path fill="lightenLess" w="26339" h="21600">
                <a:moveTo>
                  <a:pt x="0" y="0"/>
                </a:moveTo>
                <a:lnTo>
                  <a:pt x="26339" y="0"/>
                </a:lnTo>
                <a:lnTo>
                  <a:pt x="24939" y="1400"/>
                </a:lnTo>
                <a:lnTo>
                  <a:pt x="1400" y="1400"/>
                </a:lnTo>
                <a:close/>
              </a:path>
              <a:path fill="darken" w="26339" h="21600">
                <a:moveTo>
                  <a:pt x="26339" y="0"/>
                </a:moveTo>
                <a:lnTo>
                  <a:pt x="26339" y="21600"/>
                </a:lnTo>
                <a:lnTo>
                  <a:pt x="24939" y="20200"/>
                </a:lnTo>
                <a:lnTo>
                  <a:pt x="24939" y="1400"/>
                </a:lnTo>
                <a:close/>
              </a:path>
              <a:path fill="darkenLess" w="26339" h="21600">
                <a:moveTo>
                  <a:pt x="263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39" y="20200"/>
                </a:lnTo>
                <a:close/>
              </a:path>
              <a:path fill="lighten" w="263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39" h="21600">
                <a:moveTo>
                  <a:pt x="6163" y="7493"/>
                </a:moveTo>
                <a:lnTo>
                  <a:pt x="9671" y="7493"/>
                </a:lnTo>
                <a:lnTo>
                  <a:pt x="9671" y="12828"/>
                </a:lnTo>
                <a:cubicBezTo>
                  <a:pt x="9671" y="13751"/>
                  <a:pt x="10471" y="14482"/>
                  <a:pt x="11507" y="14482"/>
                </a:cubicBezTo>
                <a:lnTo>
                  <a:pt x="13169" y="14482"/>
                </a:lnTo>
                <a:cubicBezTo>
                  <a:pt x="14205" y="14482"/>
                  <a:pt x="15006" y="13751"/>
                  <a:pt x="15006" y="12828"/>
                </a:cubicBezTo>
                <a:lnTo>
                  <a:pt x="15006" y="7493"/>
                </a:lnTo>
                <a:lnTo>
                  <a:pt x="13169" y="7493"/>
                </a:lnTo>
                <a:lnTo>
                  <a:pt x="16677" y="3985"/>
                </a:lnTo>
                <a:lnTo>
                  <a:pt x="20350" y="7493"/>
                </a:lnTo>
                <a:lnTo>
                  <a:pt x="18513" y="7493"/>
                </a:lnTo>
                <a:lnTo>
                  <a:pt x="18513" y="12828"/>
                </a:lnTo>
                <a:cubicBezTo>
                  <a:pt x="18513" y="15596"/>
                  <a:pt x="15937" y="18155"/>
                  <a:pt x="13169" y="18155"/>
                </a:cubicBezTo>
                <a:lnTo>
                  <a:pt x="11507" y="18155"/>
                </a:lnTo>
                <a:cubicBezTo>
                  <a:pt x="8739" y="18155"/>
                  <a:pt x="6163" y="15596"/>
                  <a:pt x="616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68360" y="2492280"/>
            <a:ext cx="820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У какого животного иногда  льются из глаз слезы, но это вовсе не означают, что оно плачет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700360" y="5084640"/>
            <a:ext cx="345600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крокодил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539640" y="404640"/>
            <a:ext cx="18702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9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1547280" y="2205000"/>
            <a:ext cx="55645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Какое животное   трудится, не открывая глаз и не покладая рук?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68360" y="270792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bbe0e3"/>
                </a:solidFill>
                <a:uFillTx/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700360" y="5084640"/>
            <a:ext cx="345600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ро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742160" y="33336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6 бал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7380360" y="907920"/>
            <a:ext cx="1474560" cy="124956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8352000" y="6208560"/>
            <a:ext cx="792000" cy="6494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9440"/>
              <a:gd name="textAreaBottom" fmla="*/ 607680 h 649440"/>
            </a:gdLst>
            <a:ahLst/>
            <a:rect l="textAreaLeft" t="textAreaTop" r="textAreaRight" b="textAreaBottom"/>
            <a:pathLst>
              <a:path w="26339" h="21600">
                <a:moveTo>
                  <a:pt x="0" y="0"/>
                </a:moveTo>
                <a:lnTo>
                  <a:pt x="26339" y="0"/>
                </a:lnTo>
                <a:lnTo>
                  <a:pt x="26339" y="21600"/>
                </a:lnTo>
                <a:lnTo>
                  <a:pt x="0" y="21600"/>
                </a:lnTo>
                <a:close/>
              </a:path>
              <a:path fill="lightenLess" w="26339" h="21600">
                <a:moveTo>
                  <a:pt x="0" y="0"/>
                </a:moveTo>
                <a:lnTo>
                  <a:pt x="26339" y="0"/>
                </a:lnTo>
                <a:lnTo>
                  <a:pt x="24939" y="1400"/>
                </a:lnTo>
                <a:lnTo>
                  <a:pt x="1400" y="1400"/>
                </a:lnTo>
                <a:close/>
              </a:path>
              <a:path fill="darken" w="26339" h="21600">
                <a:moveTo>
                  <a:pt x="26339" y="0"/>
                </a:moveTo>
                <a:lnTo>
                  <a:pt x="26339" y="21600"/>
                </a:lnTo>
                <a:lnTo>
                  <a:pt x="24939" y="20200"/>
                </a:lnTo>
                <a:lnTo>
                  <a:pt x="24939" y="1400"/>
                </a:lnTo>
                <a:close/>
              </a:path>
              <a:path fill="darkenLess" w="26339" h="21600">
                <a:moveTo>
                  <a:pt x="263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39" y="20200"/>
                </a:lnTo>
                <a:close/>
              </a:path>
              <a:path fill="lighten" w="263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39" h="21600">
                <a:moveTo>
                  <a:pt x="6163" y="7493"/>
                </a:moveTo>
                <a:lnTo>
                  <a:pt x="9671" y="7493"/>
                </a:lnTo>
                <a:lnTo>
                  <a:pt x="9671" y="12828"/>
                </a:lnTo>
                <a:cubicBezTo>
                  <a:pt x="9671" y="13751"/>
                  <a:pt x="10471" y="14482"/>
                  <a:pt x="11507" y="14482"/>
                </a:cubicBezTo>
                <a:lnTo>
                  <a:pt x="13169" y="14482"/>
                </a:lnTo>
                <a:cubicBezTo>
                  <a:pt x="14205" y="14482"/>
                  <a:pt x="15006" y="13751"/>
                  <a:pt x="15006" y="12828"/>
                </a:cubicBezTo>
                <a:lnTo>
                  <a:pt x="15006" y="7493"/>
                </a:lnTo>
                <a:lnTo>
                  <a:pt x="13169" y="7493"/>
                </a:lnTo>
                <a:lnTo>
                  <a:pt x="16677" y="3985"/>
                </a:lnTo>
                <a:lnTo>
                  <a:pt x="20350" y="7493"/>
                </a:lnTo>
                <a:lnTo>
                  <a:pt x="18513" y="7493"/>
                </a:lnTo>
                <a:lnTo>
                  <a:pt x="18513" y="12828"/>
                </a:lnTo>
                <a:cubicBezTo>
                  <a:pt x="18513" y="15596"/>
                  <a:pt x="15937" y="18155"/>
                  <a:pt x="13169" y="18155"/>
                </a:cubicBezTo>
                <a:lnTo>
                  <a:pt x="11507" y="18155"/>
                </a:lnTo>
                <a:cubicBezTo>
                  <a:pt x="8739" y="18155"/>
                  <a:pt x="6163" y="15596"/>
                  <a:pt x="616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9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424720" cy="61927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7020000" y="4221000"/>
            <a:ext cx="1503360" cy="172728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-252360" y="2205000"/>
            <a:ext cx="5400720" cy="570564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4"/>
          <a:stretch/>
        </p:blipFill>
        <p:spPr>
          <a:xfrm>
            <a:off x="971640" y="5805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5"/>
          <a:stretch/>
        </p:blipFill>
        <p:spPr>
          <a:xfrm>
            <a:off x="2916360" y="-747720"/>
            <a:ext cx="5400720" cy="57056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6"/>
          <a:stretch/>
        </p:blipFill>
        <p:spPr>
          <a:xfrm>
            <a:off x="6227640" y="3357720"/>
            <a:ext cx="3083040" cy="32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0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0" dur="191563" fill="hold"/>
                                        <p:tgtEl>
                                          <p:spTgt spid="2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акой персонаж сказки Толстого продал «Азбуку» и купил билет в театр?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rId1" action="ppaction://hlinksldjump"/>
          </p:cNvPr>
          <p:cNvSpPr/>
          <p:nvPr/>
        </p:nvSpPr>
        <p:spPr>
          <a:xfrm>
            <a:off x="8352000" y="6208560"/>
            <a:ext cx="792000" cy="6494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9440"/>
              <a:gd name="textAreaBottom" fmla="*/ 607680 h 649440"/>
            </a:gdLst>
            <a:ahLst/>
            <a:rect l="textAreaLeft" t="textAreaTop" r="textAreaRight" b="textAreaBottom"/>
            <a:pathLst>
              <a:path w="26339" h="21600">
                <a:moveTo>
                  <a:pt x="0" y="0"/>
                </a:moveTo>
                <a:lnTo>
                  <a:pt x="26339" y="0"/>
                </a:lnTo>
                <a:lnTo>
                  <a:pt x="26339" y="21600"/>
                </a:lnTo>
                <a:lnTo>
                  <a:pt x="0" y="21600"/>
                </a:lnTo>
                <a:close/>
              </a:path>
              <a:path fill="lightenLess" w="26339" h="21600">
                <a:moveTo>
                  <a:pt x="0" y="0"/>
                </a:moveTo>
                <a:lnTo>
                  <a:pt x="26339" y="0"/>
                </a:lnTo>
                <a:lnTo>
                  <a:pt x="24939" y="1400"/>
                </a:lnTo>
                <a:lnTo>
                  <a:pt x="1400" y="1400"/>
                </a:lnTo>
                <a:close/>
              </a:path>
              <a:path fill="darken" w="26339" h="21600">
                <a:moveTo>
                  <a:pt x="26339" y="0"/>
                </a:moveTo>
                <a:lnTo>
                  <a:pt x="26339" y="21600"/>
                </a:lnTo>
                <a:lnTo>
                  <a:pt x="24939" y="20200"/>
                </a:lnTo>
                <a:lnTo>
                  <a:pt x="24939" y="1400"/>
                </a:lnTo>
                <a:close/>
              </a:path>
              <a:path fill="darkenLess" w="26339" h="21600">
                <a:moveTo>
                  <a:pt x="263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39" y="20200"/>
                </a:lnTo>
                <a:close/>
              </a:path>
              <a:path fill="lighten" w="263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39" h="21600">
                <a:moveTo>
                  <a:pt x="6163" y="7493"/>
                </a:moveTo>
                <a:lnTo>
                  <a:pt x="9671" y="7493"/>
                </a:lnTo>
                <a:lnTo>
                  <a:pt x="9671" y="12828"/>
                </a:lnTo>
                <a:cubicBezTo>
                  <a:pt x="9671" y="13751"/>
                  <a:pt x="10471" y="14482"/>
                  <a:pt x="11507" y="14482"/>
                </a:cubicBezTo>
                <a:lnTo>
                  <a:pt x="13169" y="14482"/>
                </a:lnTo>
                <a:cubicBezTo>
                  <a:pt x="14205" y="14482"/>
                  <a:pt x="15006" y="13751"/>
                  <a:pt x="15006" y="12828"/>
                </a:cubicBezTo>
                <a:lnTo>
                  <a:pt x="15006" y="7493"/>
                </a:lnTo>
                <a:lnTo>
                  <a:pt x="13169" y="7493"/>
                </a:lnTo>
                <a:lnTo>
                  <a:pt x="16677" y="3985"/>
                </a:lnTo>
                <a:lnTo>
                  <a:pt x="20350" y="7493"/>
                </a:lnTo>
                <a:lnTo>
                  <a:pt x="18513" y="7493"/>
                </a:lnTo>
                <a:lnTo>
                  <a:pt x="18513" y="12828"/>
                </a:lnTo>
                <a:cubicBezTo>
                  <a:pt x="18513" y="15596"/>
                  <a:pt x="15937" y="18155"/>
                  <a:pt x="13169" y="18155"/>
                </a:cubicBezTo>
                <a:lnTo>
                  <a:pt x="11507" y="18155"/>
                </a:lnTo>
                <a:cubicBezTo>
                  <a:pt x="8739" y="18155"/>
                  <a:pt x="6163" y="15596"/>
                  <a:pt x="616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5084640"/>
            <a:ext cx="345600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Бурати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669080" y="33336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2 бал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9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7813440" y="163440"/>
            <a:ext cx="11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3 бал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>
            <a:hlinkClick r:id="rId1" action="ppaction://hlinksldjump"/>
          </p:cNvPr>
          <p:cNvSpPr/>
          <p:nvPr/>
        </p:nvSpPr>
        <p:spPr>
          <a:xfrm>
            <a:off x="8424720" y="6237360"/>
            <a:ext cx="719280" cy="620640"/>
          </a:xfrm>
          <a:custGeom>
            <a:avLst/>
            <a:gdLst>
              <a:gd name="textAreaLeft" fmla="*/ 39960 w 719280"/>
              <a:gd name="textAreaRight" fmla="*/ 679320 w 71928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5031" h="21600">
                <a:moveTo>
                  <a:pt x="0" y="0"/>
                </a:moveTo>
                <a:lnTo>
                  <a:pt x="25031" y="0"/>
                </a:lnTo>
                <a:lnTo>
                  <a:pt x="25031" y="21600"/>
                </a:lnTo>
                <a:lnTo>
                  <a:pt x="0" y="21600"/>
                </a:lnTo>
                <a:close/>
              </a:path>
              <a:path fill="lightenLess" w="25031" h="21600">
                <a:moveTo>
                  <a:pt x="0" y="0"/>
                </a:moveTo>
                <a:lnTo>
                  <a:pt x="25031" y="0"/>
                </a:lnTo>
                <a:lnTo>
                  <a:pt x="23631" y="1400"/>
                </a:lnTo>
                <a:lnTo>
                  <a:pt x="1400" y="1400"/>
                </a:lnTo>
                <a:close/>
              </a:path>
              <a:path fill="darken" w="25031" h="21600">
                <a:moveTo>
                  <a:pt x="25031" y="0"/>
                </a:moveTo>
                <a:lnTo>
                  <a:pt x="25031" y="21600"/>
                </a:lnTo>
                <a:lnTo>
                  <a:pt x="23631" y="20200"/>
                </a:lnTo>
                <a:lnTo>
                  <a:pt x="23631" y="1400"/>
                </a:lnTo>
                <a:close/>
              </a:path>
              <a:path fill="darkenLess" w="25031" h="21600">
                <a:moveTo>
                  <a:pt x="250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31" y="20200"/>
                </a:lnTo>
                <a:close/>
              </a:path>
              <a:path fill="lighten" w="250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31" h="21600">
                <a:moveTo>
                  <a:pt x="5509" y="7493"/>
                </a:moveTo>
                <a:lnTo>
                  <a:pt x="9017" y="7493"/>
                </a:lnTo>
                <a:lnTo>
                  <a:pt x="9017" y="12828"/>
                </a:lnTo>
                <a:cubicBezTo>
                  <a:pt x="9017" y="13751"/>
                  <a:pt x="9817" y="14482"/>
                  <a:pt x="10853" y="14482"/>
                </a:cubicBezTo>
                <a:lnTo>
                  <a:pt x="12515" y="14482"/>
                </a:lnTo>
                <a:cubicBezTo>
                  <a:pt x="13551" y="14482"/>
                  <a:pt x="14352" y="13751"/>
                  <a:pt x="14352" y="12828"/>
                </a:cubicBezTo>
                <a:lnTo>
                  <a:pt x="14352" y="7493"/>
                </a:lnTo>
                <a:lnTo>
                  <a:pt x="12515" y="7493"/>
                </a:lnTo>
                <a:lnTo>
                  <a:pt x="16023" y="3985"/>
                </a:lnTo>
                <a:lnTo>
                  <a:pt x="19696" y="7493"/>
                </a:lnTo>
                <a:lnTo>
                  <a:pt x="17860" y="7493"/>
                </a:lnTo>
                <a:lnTo>
                  <a:pt x="17860" y="12828"/>
                </a:lnTo>
                <a:cubicBezTo>
                  <a:pt x="17860" y="15596"/>
                  <a:pt x="15283" y="18155"/>
                  <a:pt x="12515" y="18155"/>
                </a:cubicBezTo>
                <a:lnTo>
                  <a:pt x="10853" y="18155"/>
                </a:lnTo>
                <a:cubicBezTo>
                  <a:pt x="8085" y="18155"/>
                  <a:pt x="5509" y="15596"/>
                  <a:pt x="5509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00360" y="5084640"/>
            <a:ext cx="345600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укольн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46560" y="2203920"/>
            <a:ext cx="6634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аким театром владел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арабас Барабас?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9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771640" y="5013360"/>
            <a:ext cx="3456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742160" y="163440"/>
            <a:ext cx="11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4 бал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rId1" action="ppaction://hlinksldjump"/>
          </p:cNvPr>
          <p:cNvSpPr/>
          <p:nvPr/>
        </p:nvSpPr>
        <p:spPr>
          <a:xfrm>
            <a:off x="8352000" y="6208560"/>
            <a:ext cx="792000" cy="6494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9440"/>
              <a:gd name="textAreaBottom" fmla="*/ 607680 h 649440"/>
            </a:gdLst>
            <a:ahLst/>
            <a:rect l="textAreaLeft" t="textAreaTop" r="textAreaRight" b="textAreaBottom"/>
            <a:pathLst>
              <a:path w="26339" h="21600">
                <a:moveTo>
                  <a:pt x="0" y="0"/>
                </a:moveTo>
                <a:lnTo>
                  <a:pt x="26339" y="0"/>
                </a:lnTo>
                <a:lnTo>
                  <a:pt x="26339" y="21600"/>
                </a:lnTo>
                <a:lnTo>
                  <a:pt x="0" y="21600"/>
                </a:lnTo>
                <a:close/>
              </a:path>
              <a:path fill="lightenLess" w="26339" h="21600">
                <a:moveTo>
                  <a:pt x="0" y="0"/>
                </a:moveTo>
                <a:lnTo>
                  <a:pt x="26339" y="0"/>
                </a:lnTo>
                <a:lnTo>
                  <a:pt x="24939" y="1400"/>
                </a:lnTo>
                <a:lnTo>
                  <a:pt x="1400" y="1400"/>
                </a:lnTo>
                <a:close/>
              </a:path>
              <a:path fill="darken" w="26339" h="21600">
                <a:moveTo>
                  <a:pt x="26339" y="0"/>
                </a:moveTo>
                <a:lnTo>
                  <a:pt x="26339" y="21600"/>
                </a:lnTo>
                <a:lnTo>
                  <a:pt x="24939" y="20200"/>
                </a:lnTo>
                <a:lnTo>
                  <a:pt x="24939" y="1400"/>
                </a:lnTo>
                <a:close/>
              </a:path>
              <a:path fill="darkenLess" w="26339" h="21600">
                <a:moveTo>
                  <a:pt x="263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39" y="20200"/>
                </a:lnTo>
                <a:close/>
              </a:path>
              <a:path fill="lighten" w="263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39" h="21600">
                <a:moveTo>
                  <a:pt x="6163" y="7493"/>
                </a:moveTo>
                <a:lnTo>
                  <a:pt x="9671" y="7493"/>
                </a:lnTo>
                <a:lnTo>
                  <a:pt x="9671" y="12828"/>
                </a:lnTo>
                <a:cubicBezTo>
                  <a:pt x="9671" y="13751"/>
                  <a:pt x="10471" y="14482"/>
                  <a:pt x="11507" y="14482"/>
                </a:cubicBezTo>
                <a:lnTo>
                  <a:pt x="13169" y="14482"/>
                </a:lnTo>
                <a:cubicBezTo>
                  <a:pt x="14205" y="14482"/>
                  <a:pt x="15006" y="13751"/>
                  <a:pt x="15006" y="12828"/>
                </a:cubicBezTo>
                <a:lnTo>
                  <a:pt x="15006" y="7493"/>
                </a:lnTo>
                <a:lnTo>
                  <a:pt x="13169" y="7493"/>
                </a:lnTo>
                <a:lnTo>
                  <a:pt x="16677" y="3985"/>
                </a:lnTo>
                <a:lnTo>
                  <a:pt x="20350" y="7493"/>
                </a:lnTo>
                <a:lnTo>
                  <a:pt x="18513" y="7493"/>
                </a:lnTo>
                <a:lnTo>
                  <a:pt x="18513" y="12828"/>
                </a:lnTo>
                <a:cubicBezTo>
                  <a:pt x="18513" y="15596"/>
                  <a:pt x="15937" y="18155"/>
                  <a:pt x="13169" y="18155"/>
                </a:cubicBezTo>
                <a:lnTo>
                  <a:pt x="11507" y="18155"/>
                </a:lnTo>
                <a:cubicBezTo>
                  <a:pt x="8739" y="18155"/>
                  <a:pt x="6163" y="15596"/>
                  <a:pt x="616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8920" y="1578960"/>
            <a:ext cx="8896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акончите шуточно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пределение опер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«Опера - это когда человек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убивают, а он ещё ...( что делает?)»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66520" y="5180040"/>
            <a:ext cx="197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ё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9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9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7382160" y="260280"/>
            <a:ext cx="155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5 бал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rId1" action="ppaction://hlinksldjump"/>
          </p:cNvPr>
          <p:cNvSpPr/>
          <p:nvPr/>
        </p:nvSpPr>
        <p:spPr>
          <a:xfrm>
            <a:off x="8352000" y="6208560"/>
            <a:ext cx="792000" cy="6494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9440"/>
              <a:gd name="textAreaBottom" fmla="*/ 607680 h 649440"/>
            </a:gdLst>
            <a:ahLst/>
            <a:rect l="textAreaLeft" t="textAreaTop" r="textAreaRight" b="textAreaBottom"/>
            <a:pathLst>
              <a:path w="26339" h="21600">
                <a:moveTo>
                  <a:pt x="0" y="0"/>
                </a:moveTo>
                <a:lnTo>
                  <a:pt x="26339" y="0"/>
                </a:lnTo>
                <a:lnTo>
                  <a:pt x="26339" y="21600"/>
                </a:lnTo>
                <a:lnTo>
                  <a:pt x="0" y="21600"/>
                </a:lnTo>
                <a:close/>
              </a:path>
              <a:path fill="lightenLess" w="26339" h="21600">
                <a:moveTo>
                  <a:pt x="0" y="0"/>
                </a:moveTo>
                <a:lnTo>
                  <a:pt x="26339" y="0"/>
                </a:lnTo>
                <a:lnTo>
                  <a:pt x="24939" y="1400"/>
                </a:lnTo>
                <a:lnTo>
                  <a:pt x="1400" y="1400"/>
                </a:lnTo>
                <a:close/>
              </a:path>
              <a:path fill="darken" w="26339" h="21600">
                <a:moveTo>
                  <a:pt x="26339" y="0"/>
                </a:moveTo>
                <a:lnTo>
                  <a:pt x="26339" y="21600"/>
                </a:lnTo>
                <a:lnTo>
                  <a:pt x="24939" y="20200"/>
                </a:lnTo>
                <a:lnTo>
                  <a:pt x="24939" y="1400"/>
                </a:lnTo>
                <a:close/>
              </a:path>
              <a:path fill="darkenLess" w="26339" h="21600">
                <a:moveTo>
                  <a:pt x="263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39" y="20200"/>
                </a:lnTo>
                <a:close/>
              </a:path>
              <a:path fill="lighten" w="263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39" h="21600">
                <a:moveTo>
                  <a:pt x="6163" y="7493"/>
                </a:moveTo>
                <a:lnTo>
                  <a:pt x="9671" y="7493"/>
                </a:lnTo>
                <a:lnTo>
                  <a:pt x="9671" y="12828"/>
                </a:lnTo>
                <a:cubicBezTo>
                  <a:pt x="9671" y="13751"/>
                  <a:pt x="10471" y="14482"/>
                  <a:pt x="11507" y="14482"/>
                </a:cubicBezTo>
                <a:lnTo>
                  <a:pt x="13169" y="14482"/>
                </a:lnTo>
                <a:cubicBezTo>
                  <a:pt x="14205" y="14482"/>
                  <a:pt x="15006" y="13751"/>
                  <a:pt x="15006" y="12828"/>
                </a:cubicBezTo>
                <a:lnTo>
                  <a:pt x="15006" y="7493"/>
                </a:lnTo>
                <a:lnTo>
                  <a:pt x="13169" y="7493"/>
                </a:lnTo>
                <a:lnTo>
                  <a:pt x="16677" y="3985"/>
                </a:lnTo>
                <a:lnTo>
                  <a:pt x="20350" y="7493"/>
                </a:lnTo>
                <a:lnTo>
                  <a:pt x="18513" y="7493"/>
                </a:lnTo>
                <a:lnTo>
                  <a:pt x="18513" y="12828"/>
                </a:lnTo>
                <a:cubicBezTo>
                  <a:pt x="18513" y="15596"/>
                  <a:pt x="15937" y="18155"/>
                  <a:pt x="13169" y="18155"/>
                </a:cubicBezTo>
                <a:lnTo>
                  <a:pt x="11507" y="18155"/>
                </a:lnTo>
                <a:cubicBezTo>
                  <a:pt x="8739" y="18155"/>
                  <a:pt x="6163" y="15596"/>
                  <a:pt x="616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00360" y="5084640"/>
            <a:ext cx="345600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теат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56720" y="2133360"/>
            <a:ext cx="797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Что по Станиславскому являетс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одолжением вешалки?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9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7741800" y="163440"/>
            <a:ext cx="132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6 бал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rId1" action="ppaction://hlinksldjump"/>
          </p:cNvPr>
          <p:cNvSpPr/>
          <p:nvPr/>
        </p:nvSpPr>
        <p:spPr>
          <a:xfrm>
            <a:off x="8352000" y="6208560"/>
            <a:ext cx="792000" cy="6494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9440"/>
              <a:gd name="textAreaBottom" fmla="*/ 607680 h 649440"/>
            </a:gdLst>
            <a:ahLst/>
            <a:rect l="textAreaLeft" t="textAreaTop" r="textAreaRight" b="textAreaBottom"/>
            <a:pathLst>
              <a:path w="26339" h="21600">
                <a:moveTo>
                  <a:pt x="0" y="0"/>
                </a:moveTo>
                <a:lnTo>
                  <a:pt x="26339" y="0"/>
                </a:lnTo>
                <a:lnTo>
                  <a:pt x="26339" y="21600"/>
                </a:lnTo>
                <a:lnTo>
                  <a:pt x="0" y="21600"/>
                </a:lnTo>
                <a:close/>
              </a:path>
              <a:path fill="lightenLess" w="26339" h="21600">
                <a:moveTo>
                  <a:pt x="0" y="0"/>
                </a:moveTo>
                <a:lnTo>
                  <a:pt x="26339" y="0"/>
                </a:lnTo>
                <a:lnTo>
                  <a:pt x="24939" y="1400"/>
                </a:lnTo>
                <a:lnTo>
                  <a:pt x="1400" y="1400"/>
                </a:lnTo>
                <a:close/>
              </a:path>
              <a:path fill="darken" w="26339" h="21600">
                <a:moveTo>
                  <a:pt x="26339" y="0"/>
                </a:moveTo>
                <a:lnTo>
                  <a:pt x="26339" y="21600"/>
                </a:lnTo>
                <a:lnTo>
                  <a:pt x="24939" y="20200"/>
                </a:lnTo>
                <a:lnTo>
                  <a:pt x="24939" y="1400"/>
                </a:lnTo>
                <a:close/>
              </a:path>
              <a:path fill="darkenLess" w="26339" h="21600">
                <a:moveTo>
                  <a:pt x="263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39" y="20200"/>
                </a:lnTo>
                <a:close/>
              </a:path>
              <a:path fill="lighten" w="263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39" h="21600">
                <a:moveTo>
                  <a:pt x="6163" y="7493"/>
                </a:moveTo>
                <a:lnTo>
                  <a:pt x="9671" y="7493"/>
                </a:lnTo>
                <a:lnTo>
                  <a:pt x="9671" y="12828"/>
                </a:lnTo>
                <a:cubicBezTo>
                  <a:pt x="9671" y="13751"/>
                  <a:pt x="10471" y="14482"/>
                  <a:pt x="11507" y="14482"/>
                </a:cubicBezTo>
                <a:lnTo>
                  <a:pt x="13169" y="14482"/>
                </a:lnTo>
                <a:cubicBezTo>
                  <a:pt x="14205" y="14482"/>
                  <a:pt x="15006" y="13751"/>
                  <a:pt x="15006" y="12828"/>
                </a:cubicBezTo>
                <a:lnTo>
                  <a:pt x="15006" y="7493"/>
                </a:lnTo>
                <a:lnTo>
                  <a:pt x="13169" y="7493"/>
                </a:lnTo>
                <a:lnTo>
                  <a:pt x="16677" y="3985"/>
                </a:lnTo>
                <a:lnTo>
                  <a:pt x="20350" y="7493"/>
                </a:lnTo>
                <a:lnTo>
                  <a:pt x="18513" y="7493"/>
                </a:lnTo>
                <a:lnTo>
                  <a:pt x="18513" y="12828"/>
                </a:lnTo>
                <a:cubicBezTo>
                  <a:pt x="18513" y="15596"/>
                  <a:pt x="15937" y="18155"/>
                  <a:pt x="13169" y="18155"/>
                </a:cubicBezTo>
                <a:lnTo>
                  <a:pt x="11507" y="18155"/>
                </a:lnTo>
                <a:cubicBezTo>
                  <a:pt x="8739" y="18155"/>
                  <a:pt x="6163" y="15596"/>
                  <a:pt x="616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700360" y="5084640"/>
            <a:ext cx="345600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уфлё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74160" y="2420640"/>
            <a:ext cx="712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амый главный театральны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евидимка - это... Кто?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9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742160" y="163440"/>
            <a:ext cx="10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1 бал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>
            <a:hlinkClick r:id="rId1" action="ppaction://hlinksldjump"/>
          </p:cNvPr>
          <p:cNvSpPr/>
          <p:nvPr/>
        </p:nvSpPr>
        <p:spPr>
          <a:xfrm>
            <a:off x="8352000" y="6208560"/>
            <a:ext cx="792000" cy="6494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9440"/>
              <a:gd name="textAreaBottom" fmla="*/ 607680 h 649440"/>
            </a:gdLst>
            <a:ahLst/>
            <a:rect l="textAreaLeft" t="textAreaTop" r="textAreaRight" b="textAreaBottom"/>
            <a:pathLst>
              <a:path w="26339" h="21600">
                <a:moveTo>
                  <a:pt x="0" y="0"/>
                </a:moveTo>
                <a:lnTo>
                  <a:pt x="26339" y="0"/>
                </a:lnTo>
                <a:lnTo>
                  <a:pt x="26339" y="21600"/>
                </a:lnTo>
                <a:lnTo>
                  <a:pt x="0" y="21600"/>
                </a:lnTo>
                <a:close/>
              </a:path>
              <a:path fill="lightenLess" w="26339" h="21600">
                <a:moveTo>
                  <a:pt x="0" y="0"/>
                </a:moveTo>
                <a:lnTo>
                  <a:pt x="26339" y="0"/>
                </a:lnTo>
                <a:lnTo>
                  <a:pt x="24939" y="1400"/>
                </a:lnTo>
                <a:lnTo>
                  <a:pt x="1400" y="1400"/>
                </a:lnTo>
                <a:close/>
              </a:path>
              <a:path fill="darken" w="26339" h="21600">
                <a:moveTo>
                  <a:pt x="26339" y="0"/>
                </a:moveTo>
                <a:lnTo>
                  <a:pt x="26339" y="21600"/>
                </a:lnTo>
                <a:lnTo>
                  <a:pt x="24939" y="20200"/>
                </a:lnTo>
                <a:lnTo>
                  <a:pt x="24939" y="1400"/>
                </a:lnTo>
                <a:close/>
              </a:path>
              <a:path fill="darkenLess" w="26339" h="21600">
                <a:moveTo>
                  <a:pt x="263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39" y="20200"/>
                </a:lnTo>
                <a:close/>
              </a:path>
              <a:path fill="lighten" w="263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39" h="21600">
                <a:moveTo>
                  <a:pt x="6163" y="7493"/>
                </a:moveTo>
                <a:lnTo>
                  <a:pt x="9671" y="7493"/>
                </a:lnTo>
                <a:lnTo>
                  <a:pt x="9671" y="12828"/>
                </a:lnTo>
                <a:cubicBezTo>
                  <a:pt x="9671" y="13751"/>
                  <a:pt x="10471" y="14482"/>
                  <a:pt x="11507" y="14482"/>
                </a:cubicBezTo>
                <a:lnTo>
                  <a:pt x="13169" y="14482"/>
                </a:lnTo>
                <a:cubicBezTo>
                  <a:pt x="14205" y="14482"/>
                  <a:pt x="15006" y="13751"/>
                  <a:pt x="15006" y="12828"/>
                </a:cubicBezTo>
                <a:lnTo>
                  <a:pt x="15006" y="7493"/>
                </a:lnTo>
                <a:lnTo>
                  <a:pt x="13169" y="7493"/>
                </a:lnTo>
                <a:lnTo>
                  <a:pt x="16677" y="3985"/>
                </a:lnTo>
                <a:lnTo>
                  <a:pt x="20350" y="7493"/>
                </a:lnTo>
                <a:lnTo>
                  <a:pt x="18513" y="7493"/>
                </a:lnTo>
                <a:lnTo>
                  <a:pt x="18513" y="12828"/>
                </a:lnTo>
                <a:cubicBezTo>
                  <a:pt x="18513" y="15596"/>
                  <a:pt x="15937" y="18155"/>
                  <a:pt x="13169" y="18155"/>
                </a:cubicBezTo>
                <a:lnTo>
                  <a:pt x="11507" y="18155"/>
                </a:lnTo>
                <a:cubicBezTo>
                  <a:pt x="8739" y="18155"/>
                  <a:pt x="6163" y="15596"/>
                  <a:pt x="616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987640" y="5084640"/>
            <a:ext cx="287964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14160" y="2420280"/>
            <a:ext cx="797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колько лучиков у снежинки?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9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6T12:43:42Z</dcterms:created>
  <dc:creator>антон</dc:creator>
  <dc:description/>
  <dc:language>en-US</dc:language>
  <cp:lastModifiedBy>007</cp:lastModifiedBy>
  <dcterms:modified xsi:type="dcterms:W3CDTF">2011-07-19T11:07:08Z</dcterms:modified>
  <cp:revision>23</cp:revision>
  <dc:subject/>
  <dc:title>Слайд 1</dc:title>
</cp:coreProperties>
</file>